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0.jpeg" ContentType="image/jpeg"/>
  <Override PartName="/ppt/media/image24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57D1-7AC4-4119-8EBE-A1F6BBE5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9B6A-8E18-4A35-A050-FB2F72B2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4B3EA-6B6D-40DA-B7CA-41761D6D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A7329-F7C2-4358-B2A3-DC4E66AA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7251C-E430-409D-BDFE-D1A0464B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47256-FE9E-4A66-B4FE-31589007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3F320-DA93-46A8-9AD9-D46B8AC7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F32F6-B589-40BD-A330-8281AD6F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88F0B-B1AD-4D52-B40D-AD79B609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7DA59-7AFC-4A56-9D58-7339FDFB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3E04A-551D-472D-8489-AE3E16E3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A83A3-1BC8-4519-8998-7F3C2752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0A90-DC42-48E2-9DE3-9A4161AB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6876B-D111-4FA4-823A-50EF4060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EE509-BB56-4383-B6DB-7C96C754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ED96B-3D28-4E15-AADC-46E26CEF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C60A4-67E9-4CD8-BD4D-681AC6A2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18F31-DCDF-4080-AC8B-D30F980E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3555D-CE83-4A21-B8BD-F02AFBC8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9FF3C-5876-4E96-BBB6-77857331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DE724-FD6C-41AE-861E-D3E9C211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924D4-F5B9-4188-87EE-D5D1085B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8716B-3A97-4273-B357-9B5D987A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B109-2FBA-4AE2-A6D1-2DCA1430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29EDD-A8A2-426E-9935-70C4B631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4186E-06BA-448C-BF25-42AB920B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01923-6D17-41CD-95D2-5AB2F159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90119-B7B1-4D82-BC5A-E034CFC7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D1DF6-0845-49CD-B45C-651AE010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6FBA9-4D9B-4145-B0D0-C3AE950F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EA3B9-E330-48E4-9691-E9F94E4F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871F6-19C2-4AFE-BB4D-7A2159B1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971E9-EA5F-4821-BD50-8039F06F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C0084-5802-40A4-BFB2-8B6E980E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B071-45E6-4757-AED3-4123E1FB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458C6-4C75-4C33-A0DF-5685E21C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ED310-4D86-4F49-A649-3FB12107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2E013-F617-4AB3-B3EB-2F4B46ED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382C4-A491-4964-9B4E-C11FB9CF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F8917-69EA-46C9-86A4-6E8CFB73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4B136F-9429-4FFA-B917-FBBCD8F8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5B555-3B0E-4658-B16B-C12802A7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E3B28-AB33-4DE1-96C3-9195837B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A3582-537B-4109-8C86-A5288E93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490265-2CED-448C-8650-2ACED03F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E582-5929-45C1-A220-EB8D087A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AA7E1-B4B1-4891-A32C-D6CE51E3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CC86D-33DA-433A-B1B4-3D0A4715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72B17-7C17-4153-9993-87CEA7A1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A0B63-068B-4966-8473-2EE4BE80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A96CE-CBB2-4C18-941E-22818F05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7AE4-887E-46D7-AA7C-34D816ED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DBEE-E930-40E0-BBE1-AF7A53D5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3423-DB49-4028-84BD-70E9C082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24D7-9B1A-4FAF-8164-115B0693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F306-B27A-4B77-B480-66FB2769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BADC-45E0-4F6B-86FD-B6F6EC46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A47F-8003-494F-85EF-E6D6BA6A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63ED-6A36-4285-A07A-05A466C0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B9ED-DF6A-450C-A592-D2157AA0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9402-746D-4C20-8D96-9D710AB7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B355-42D6-4FCE-BA3D-4EE2E45B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D295F-779E-4E3B-BD1B-57B5EC6C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25C5C-842F-40D1-ABA1-6CAAC221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1A07D-6D2B-4783-BD36-0FBDE294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63153-26E3-487C-B27D-7DFA5AC1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47C08-89A4-4D12-A556-C31D389C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8CA4-3806-4500-907B-A8D48238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FB609-C33F-42BE-B1FD-BE6D161B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26D53-0A3A-4BC3-A572-1D49CE81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82A05-5986-4E9E-A2C7-D5F6580A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23682-B772-41EB-9F33-603AA1E0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93D60-48C3-4D0D-928A-6EDF0AD1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70887-7521-43F9-9D56-DBBE4A30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75CAF-59E0-462C-B5B7-9E896411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FF6A1-F858-49D2-A72F-BC3E673F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744D5-907C-4182-A621-1C80CCF0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D931F-DEAC-4888-9564-6987EA73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5BB6-7F42-40A6-B432-19D3F001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27CC7-BEEB-4401-B2D3-1C16FE4A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6F9F5-C9E9-4131-B1F4-65F7C0E3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D100C-3117-4820-BBBE-CB5E664E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430A8-0007-464B-A0EF-D2447E29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D0F43-6711-467E-B281-D96D39A1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AC030-68B1-46BF-93A3-C5935F55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87182-8AF7-4B36-821A-2C267041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E4C88-A9FB-446A-B435-19104DA6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60ECD-468F-4555-9AC4-97B0EA76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1373A-1CEF-458E-A0C0-3011C843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21EF-C718-4A08-92AD-5A4B56F8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2A0B8-4D35-4599-BF57-064E4928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E5AED-48AF-430E-931A-93AD9315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26BF2-B636-48A1-B4C1-43E6229C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BB659-9ABD-4D88-96DF-8813F391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79BAA-E16D-45CE-91A9-4905CC73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2151F-1137-4524-BD9F-154D7C94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30557-01CC-42E7-923F-21D50BFA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6776E-5C3C-44E3-AE27-52794122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8ECA7-8759-4259-9610-DD57CB75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A8915-9DD0-449B-86FC-C0AFE41F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F407-2456-46BE-9A40-9EAF4013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0ED5B-CC94-41AA-8CC1-D2B17ACC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2E48D-B59B-4A8F-B11E-89EB7E21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6FDFF-71D0-41E8-AB9F-2228F89C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CD993-6B41-4C06-B9B6-E748CC91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4AE06-2F0A-471E-976B-6D217ACF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18216-691F-49AF-BCB3-23FDF8C2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E0848-F519-460F-92B1-7FD6B5E0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E0D97-D27D-40A3-A40B-C112CF67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585EE-505F-44F7-BF71-D83B23A4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B3F09-FACA-4AD9-9658-15444A06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DF73-FC6C-47AD-9AC1-D8913F44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1DBCD-786F-4606-8D28-411338A7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2A3BD-1CD4-4206-9864-4FD60D8B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9E9ED-53AF-487E-9513-34A0C068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375E7-F45E-4160-BD12-17481234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73341-1815-4BF3-8501-D58BA32C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C8CAE-8060-4359-9B9A-7F2F2211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C2AE4-5EA0-4E57-A9CB-98DED9BE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F55D2-81C2-4B39-9CB3-ABE814E2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4F063-A0EA-4C4D-BF2F-A232FAC4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E2B1E-3AC8-4D01-B5C4-703BE464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EFA2-76C1-4541-9E0A-F5CEEE06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76E87-9C59-4918-8693-A07A9A5B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8C1E2-F6F8-4CA8-A562-9DD5A76B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B091E-A733-40A8-A061-36624571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AAB46-B2D5-42A9-99F9-E6F9D63E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D0D34-3046-406B-A2AD-313901CF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353E3-FF55-4FA6-ACEC-505084D1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11148-EA8F-4CAC-89D3-57DBFC1B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DD683-4C8B-490D-821E-AAA5CF72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62B47-E341-435A-9E4E-F0C05D2D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60900-3023-4897-B325-2D421CA1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BF2E-B80F-465D-801E-E562824B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820E5-B7A8-4491-AB00-AFEE3AAB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BB9F2-A75A-4491-8D1E-7DAB943D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185D5-4672-43D3-BF1A-76CD56AB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9AC62-174A-497B-A153-A0F6B8F7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26202-52A8-45A8-BC47-10F46DBB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01F29-A67A-42D9-8280-D09714A6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C9BD0-BD5E-44A8-8942-E94B5A35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63FEA-BABD-477F-BEF8-D425925B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CB001-A1A5-48AB-9266-2E759858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9DC00-2F5A-4918-92E5-9EB6A466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.xml"/><Relationship Id="rId18" Type="http://schemas.openxmlformats.org/officeDocument/2006/relationships/slideLayout" Target="../slideLayouts/slideLayout2.xml"/><Relationship Id="rId19" Type="http://schemas.openxmlformats.org/officeDocument/2006/relationships/slideLayout" Target="../slideLayouts/slideLayout3.xml"/><Relationship Id="rId20" Type="http://schemas.openxmlformats.org/officeDocument/2006/relationships/slideLayout" Target="../slideLayouts/slideLayout4.xml"/><Relationship Id="rId21" Type="http://schemas.openxmlformats.org/officeDocument/2006/relationships/slideLayout" Target="../slideLayouts/slideLayout5.xml"/><Relationship Id="rId22" Type="http://schemas.openxmlformats.org/officeDocument/2006/relationships/slideLayout" Target="../slideLayouts/slideLayout6.xml"/><Relationship Id="rId23" Type="http://schemas.openxmlformats.org/officeDocument/2006/relationships/slideLayout" Target="../slideLayouts/slideLayout7.xml"/><Relationship Id="rId24" Type="http://schemas.openxmlformats.org/officeDocument/2006/relationships/slideLayout" Target="../slideLayouts/slideLayout8.xml"/><Relationship Id="rId25" Type="http://schemas.openxmlformats.org/officeDocument/2006/relationships/slideLayout" Target="../slideLayouts/slideLayout9.xml"/><Relationship Id="rId26" Type="http://schemas.openxmlformats.org/officeDocument/2006/relationships/slideLayout" Target="../slideLayouts/slideLayout10.xml"/><Relationship Id="rId27" Type="http://schemas.openxmlformats.org/officeDocument/2006/relationships/slideLayout" Target="../slideLayouts/slideLayout11.xml"/><Relationship Id="rId2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09.xml"/><Relationship Id="rId18" Type="http://schemas.openxmlformats.org/officeDocument/2006/relationships/slideLayout" Target="../slideLayouts/slideLayout110.xml"/><Relationship Id="rId19" Type="http://schemas.openxmlformats.org/officeDocument/2006/relationships/slideLayout" Target="../slideLayouts/slideLayout111.xml"/><Relationship Id="rId20" Type="http://schemas.openxmlformats.org/officeDocument/2006/relationships/slideLayout" Target="../slideLayouts/slideLayout112.xml"/><Relationship Id="rId21" Type="http://schemas.openxmlformats.org/officeDocument/2006/relationships/slideLayout" Target="../slideLayouts/slideLayout113.xml"/><Relationship Id="rId22" Type="http://schemas.openxmlformats.org/officeDocument/2006/relationships/slideLayout" Target="../slideLayouts/slideLayout114.xml"/><Relationship Id="rId23" Type="http://schemas.openxmlformats.org/officeDocument/2006/relationships/slideLayout" Target="../slideLayouts/slideLayout115.xml"/><Relationship Id="rId24" Type="http://schemas.openxmlformats.org/officeDocument/2006/relationships/slideLayout" Target="../slideLayouts/slideLayout116.xml"/><Relationship Id="rId25" Type="http://schemas.openxmlformats.org/officeDocument/2006/relationships/slideLayout" Target="../slideLayouts/slideLayout117.xml"/><Relationship Id="rId26" Type="http://schemas.openxmlformats.org/officeDocument/2006/relationships/slideLayout" Target="../slideLayouts/slideLayout118.xml"/><Relationship Id="rId27" Type="http://schemas.openxmlformats.org/officeDocument/2006/relationships/slideLayout" Target="../slideLayouts/slideLayout119.xml"/><Relationship Id="rId2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21.xml"/><Relationship Id="rId18" Type="http://schemas.openxmlformats.org/officeDocument/2006/relationships/slideLayout" Target="../slideLayouts/slideLayout122.xml"/><Relationship Id="rId19" Type="http://schemas.openxmlformats.org/officeDocument/2006/relationships/slideLayout" Target="../slideLayouts/slideLayout123.xml"/><Relationship Id="rId20" Type="http://schemas.openxmlformats.org/officeDocument/2006/relationships/slideLayout" Target="../slideLayouts/slideLayout124.xml"/><Relationship Id="rId21" Type="http://schemas.openxmlformats.org/officeDocument/2006/relationships/slideLayout" Target="../slideLayouts/slideLayout125.xml"/><Relationship Id="rId22" Type="http://schemas.openxmlformats.org/officeDocument/2006/relationships/slideLayout" Target="../slideLayouts/slideLayout126.xml"/><Relationship Id="rId23" Type="http://schemas.openxmlformats.org/officeDocument/2006/relationships/slideLayout" Target="../slideLayouts/slideLayout127.xml"/><Relationship Id="rId24" Type="http://schemas.openxmlformats.org/officeDocument/2006/relationships/slideLayout" Target="../slideLayouts/slideLayout128.xml"/><Relationship Id="rId25" Type="http://schemas.openxmlformats.org/officeDocument/2006/relationships/slideLayout" Target="../slideLayouts/slideLayout129.xml"/><Relationship Id="rId26" Type="http://schemas.openxmlformats.org/officeDocument/2006/relationships/slideLayout" Target="../slideLayouts/slideLayout130.xml"/><Relationship Id="rId27" Type="http://schemas.openxmlformats.org/officeDocument/2006/relationships/slideLayout" Target="../slideLayouts/slideLayout131.xml"/><Relationship Id="rId2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33.xml"/><Relationship Id="rId18" Type="http://schemas.openxmlformats.org/officeDocument/2006/relationships/slideLayout" Target="../slideLayouts/slideLayout134.xml"/><Relationship Id="rId19" Type="http://schemas.openxmlformats.org/officeDocument/2006/relationships/slideLayout" Target="../slideLayouts/slideLayout135.xml"/><Relationship Id="rId20" Type="http://schemas.openxmlformats.org/officeDocument/2006/relationships/slideLayout" Target="../slideLayouts/slideLayout136.xml"/><Relationship Id="rId21" Type="http://schemas.openxmlformats.org/officeDocument/2006/relationships/slideLayout" Target="../slideLayouts/slideLayout137.xml"/><Relationship Id="rId22" Type="http://schemas.openxmlformats.org/officeDocument/2006/relationships/slideLayout" Target="../slideLayouts/slideLayout138.xml"/><Relationship Id="rId23" Type="http://schemas.openxmlformats.org/officeDocument/2006/relationships/slideLayout" Target="../slideLayouts/slideLayout139.xml"/><Relationship Id="rId24" Type="http://schemas.openxmlformats.org/officeDocument/2006/relationships/slideLayout" Target="../slideLayouts/slideLayout140.xml"/><Relationship Id="rId25" Type="http://schemas.openxmlformats.org/officeDocument/2006/relationships/slideLayout" Target="../slideLayouts/slideLayout141.xml"/><Relationship Id="rId26" Type="http://schemas.openxmlformats.org/officeDocument/2006/relationships/slideLayout" Target="../slideLayouts/slideLayout142.xml"/><Relationship Id="rId27" Type="http://schemas.openxmlformats.org/officeDocument/2006/relationships/slideLayout" Target="../slideLayouts/slideLayout143.xml"/><Relationship Id="rId2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3.xml"/><Relationship Id="rId18" Type="http://schemas.openxmlformats.org/officeDocument/2006/relationships/slideLayout" Target="../slideLayouts/slideLayout14.xml"/><Relationship Id="rId19" Type="http://schemas.openxmlformats.org/officeDocument/2006/relationships/slideLayout" Target="../slideLayouts/slideLayout15.xml"/><Relationship Id="rId20" Type="http://schemas.openxmlformats.org/officeDocument/2006/relationships/slideLayout" Target="../slideLayouts/slideLayout16.xml"/><Relationship Id="rId21" Type="http://schemas.openxmlformats.org/officeDocument/2006/relationships/slideLayout" Target="../slideLayouts/slideLayout17.xml"/><Relationship Id="rId22" Type="http://schemas.openxmlformats.org/officeDocument/2006/relationships/slideLayout" Target="../slideLayouts/slideLayout18.xml"/><Relationship Id="rId23" Type="http://schemas.openxmlformats.org/officeDocument/2006/relationships/slideLayout" Target="../slideLayouts/slideLayout19.xml"/><Relationship Id="rId24" Type="http://schemas.openxmlformats.org/officeDocument/2006/relationships/slideLayout" Target="../slideLayouts/slideLayout20.xml"/><Relationship Id="rId25" Type="http://schemas.openxmlformats.org/officeDocument/2006/relationships/slideLayout" Target="../slideLayouts/slideLayout21.xml"/><Relationship Id="rId26" Type="http://schemas.openxmlformats.org/officeDocument/2006/relationships/slideLayout" Target="../slideLayouts/slideLayout22.xml"/><Relationship Id="rId27" Type="http://schemas.openxmlformats.org/officeDocument/2006/relationships/slideLayout" Target="../slideLayouts/slideLayout23.xml"/><Relationship Id="rId2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6.jpe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85.xml"/><Relationship Id="rId18" Type="http://schemas.openxmlformats.org/officeDocument/2006/relationships/slideLayout" Target="../slideLayouts/slideLayout86.xml"/><Relationship Id="rId19" Type="http://schemas.openxmlformats.org/officeDocument/2006/relationships/slideLayout" Target="../slideLayouts/slideLayout87.xml"/><Relationship Id="rId20" Type="http://schemas.openxmlformats.org/officeDocument/2006/relationships/slideLayout" Target="../slideLayouts/slideLayout88.xml"/><Relationship Id="rId21" Type="http://schemas.openxmlformats.org/officeDocument/2006/relationships/slideLayout" Target="../slideLayouts/slideLayout89.xml"/><Relationship Id="rId22" Type="http://schemas.openxmlformats.org/officeDocument/2006/relationships/slideLayout" Target="../slideLayouts/slideLayout90.xml"/><Relationship Id="rId23" Type="http://schemas.openxmlformats.org/officeDocument/2006/relationships/slideLayout" Target="../slideLayouts/slideLayout91.xml"/><Relationship Id="rId24" Type="http://schemas.openxmlformats.org/officeDocument/2006/relationships/slideLayout" Target="../slideLayouts/slideLayout92.xml"/><Relationship Id="rId25" Type="http://schemas.openxmlformats.org/officeDocument/2006/relationships/slideLayout" Target="../slideLayouts/slideLayout93.xml"/><Relationship Id="rId26" Type="http://schemas.openxmlformats.org/officeDocument/2006/relationships/slideLayout" Target="../slideLayouts/slideLayout94.xml"/><Relationship Id="rId27" Type="http://schemas.openxmlformats.org/officeDocument/2006/relationships/slideLayout" Target="../slideLayouts/slideLayout95.xml"/><Relationship Id="rId2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97.xml"/><Relationship Id="rId18" Type="http://schemas.openxmlformats.org/officeDocument/2006/relationships/slideLayout" Target="../slideLayouts/slideLayout98.xml"/><Relationship Id="rId19" Type="http://schemas.openxmlformats.org/officeDocument/2006/relationships/slideLayout" Target="../slideLayouts/slideLayout99.xml"/><Relationship Id="rId20" Type="http://schemas.openxmlformats.org/officeDocument/2006/relationships/slideLayout" Target="../slideLayouts/slideLayout100.xml"/><Relationship Id="rId21" Type="http://schemas.openxmlformats.org/officeDocument/2006/relationships/slideLayout" Target="../slideLayouts/slideLayout101.xml"/><Relationship Id="rId22" Type="http://schemas.openxmlformats.org/officeDocument/2006/relationships/slideLayout" Target="../slideLayouts/slideLayout102.xml"/><Relationship Id="rId23" Type="http://schemas.openxmlformats.org/officeDocument/2006/relationships/slideLayout" Target="../slideLayouts/slideLayout103.xml"/><Relationship Id="rId24" Type="http://schemas.openxmlformats.org/officeDocument/2006/relationships/slideLayout" Target="../slideLayouts/slideLayout104.xml"/><Relationship Id="rId25" Type="http://schemas.openxmlformats.org/officeDocument/2006/relationships/slideLayout" Target="../slideLayouts/slideLayout105.xml"/><Relationship Id="rId26" Type="http://schemas.openxmlformats.org/officeDocument/2006/relationships/slideLayout" Target="../slideLayouts/slideLayout106.xml"/><Relationship Id="rId27" Type="http://schemas.openxmlformats.org/officeDocument/2006/relationships/slideLayout" Target="../slideLayouts/slideLayout107.xml"/><Relationship Id="rId2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4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11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12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13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14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15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FDA2-73A3-4CB0-9881-087A2008CD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7"/>
    <p:sldLayoutId id="2147483650" r:id="rId18"/>
    <p:sldLayoutId id="2147483651" r:id="rId19"/>
    <p:sldLayoutId id="2147483652" r:id="rId20"/>
    <p:sldLayoutId id="2147483653" r:id="rId21"/>
    <p:sldLayoutId id="2147483654" r:id="rId22"/>
    <p:sldLayoutId id="2147483655" r:id="rId23"/>
    <p:sldLayoutId id="2147483656" r:id="rId24"/>
    <p:sldLayoutId id="2147483657" r:id="rId25"/>
    <p:sldLayoutId id="2147483658" r:id="rId26"/>
    <p:sldLayoutId id="2147483659" r:id="rId27"/>
    <p:sldLayoutId id="2147483660" r:id="rId2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504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05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506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508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512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513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14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516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8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9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A5C5-49AA-4538-9C5D-3509738E7E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7"/>
    <p:sldLayoutId id="2147483767" r:id="rId18"/>
    <p:sldLayoutId id="2147483768" r:id="rId19"/>
    <p:sldLayoutId id="2147483769" r:id="rId20"/>
    <p:sldLayoutId id="2147483770" r:id="rId21"/>
    <p:sldLayoutId id="2147483771" r:id="rId22"/>
    <p:sldLayoutId id="2147483772" r:id="rId23"/>
    <p:sldLayoutId id="2147483773" r:id="rId24"/>
    <p:sldLayoutId id="2147483774" r:id="rId25"/>
    <p:sldLayoutId id="2147483775" r:id="rId26"/>
    <p:sldLayoutId id="2147483776" r:id="rId27"/>
    <p:sldLayoutId id="2147483777" r:id="rId2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569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570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71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572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573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1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2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D6FA-C590-4E46-B8F2-A671FBC776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7"/>
    <p:sldLayoutId id="2147483780" r:id="rId18"/>
    <p:sldLayoutId id="2147483781" r:id="rId19"/>
    <p:sldLayoutId id="2147483782" r:id="rId20"/>
    <p:sldLayoutId id="2147483783" r:id="rId21"/>
    <p:sldLayoutId id="2147483784" r:id="rId22"/>
    <p:sldLayoutId id="2147483785" r:id="rId23"/>
    <p:sldLayoutId id="2147483786" r:id="rId24"/>
    <p:sldLayoutId id="2147483787" r:id="rId25"/>
    <p:sldLayoutId id="2147483788" r:id="rId26"/>
    <p:sldLayoutId id="2147483789" r:id="rId27"/>
    <p:sldLayoutId id="2147483790" r:id="rId2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617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618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19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20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21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622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623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624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625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626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627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628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629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630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34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35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809A-4970-4406-ABFA-40E323BF29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7"/>
    <p:sldLayoutId id="2147483793" r:id="rId18"/>
    <p:sldLayoutId id="2147483794" r:id="rId19"/>
    <p:sldLayoutId id="2147483795" r:id="rId20"/>
    <p:sldLayoutId id="2147483796" r:id="rId21"/>
    <p:sldLayoutId id="2147483797" r:id="rId22"/>
    <p:sldLayoutId id="2147483798" r:id="rId23"/>
    <p:sldLayoutId id="2147483799" r:id="rId24"/>
    <p:sldLayoutId id="2147483800" r:id="rId25"/>
    <p:sldLayoutId id="2147483801" r:id="rId26"/>
    <p:sldLayoutId id="2147483802" r:id="rId27"/>
    <p:sldLayoutId id="2147483803" r:id="rId2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B588-4A0D-4092-A170-9F248D7CA2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7"/>
    <p:sldLayoutId id="2147483663" r:id="rId18"/>
    <p:sldLayoutId id="2147483664" r:id="rId19"/>
    <p:sldLayoutId id="2147483665" r:id="rId20"/>
    <p:sldLayoutId id="2147483666" r:id="rId21"/>
    <p:sldLayoutId id="2147483667" r:id="rId22"/>
    <p:sldLayoutId id="2147483668" r:id="rId23"/>
    <p:sldLayoutId id="2147483669" r:id="rId24"/>
    <p:sldLayoutId id="2147483670" r:id="rId25"/>
    <p:sldLayoutId id="2147483671" r:id="rId26"/>
    <p:sldLayoutId id="2147483672" r:id="rId27"/>
    <p:sldLayoutId id="2147483673" r:id="rId2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22"/>
          <p:cNvSpPr/>
          <p:nvPr/>
        </p:nvSpPr>
        <p:spPr>
          <a:xfrm>
            <a:off x="500040" y="285840"/>
            <a:ext cx="8215200" cy="5857920"/>
          </a:xfrm>
          <a:prstGeom prst="rect">
            <a:avLst/>
          </a:prstGeom>
          <a:blipFill rotWithShape="0">
            <a:blip r:embed="rId2"/>
            <a:srcRect/>
            <a:stretch/>
          </a:blipFill>
          <a:ln w="2030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5" descr="i (5).jpg"/>
          <p:cNvPicPr/>
          <p:nvPr/>
        </p:nvPicPr>
        <p:blipFill>
          <a:blip r:embed="rId3"/>
          <a:stretch/>
        </p:blipFill>
        <p:spPr>
          <a:xfrm>
            <a:off x="7000920" y="5357880"/>
            <a:ext cx="1838160" cy="13572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5"/>
          <p:cNvSpPr/>
          <p:nvPr/>
        </p:nvSpPr>
        <p:spPr>
          <a:xfrm>
            <a:off x="165240" y="657216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27" descr="божья коровка.jpg"/>
          <p:cNvPicPr/>
          <p:nvPr/>
        </p:nvPicPr>
        <p:blipFill>
          <a:blip r:embed="rId4"/>
          <a:stretch/>
        </p:blipFill>
        <p:spPr>
          <a:xfrm>
            <a:off x="7500960" y="5051520"/>
            <a:ext cx="714240" cy="577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2928600" y="7072200"/>
            <a:ext cx="57132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D4E9-1B46-40E7-9E8E-2C912A27EC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3286080" y="7000920"/>
            <a:ext cx="5716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D223-CE44-4821-8AD3-16E6FCEC18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81AD-0EFC-4071-8865-6298C53D94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6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7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8A3F-2676-4E4D-B023-53EFEF8B28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9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0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28F3-89E3-4BC7-BC7A-A513AF3E62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0AE6-0E9E-4E46-A3E5-91335F0EFE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7"/>
    <p:sldLayoutId id="2147483741" r:id="rId18"/>
    <p:sldLayoutId id="2147483742" r:id="rId19"/>
    <p:sldLayoutId id="2147483743" r:id="rId20"/>
    <p:sldLayoutId id="2147483744" r:id="rId21"/>
    <p:sldLayoutId id="2147483745" r:id="rId22"/>
    <p:sldLayoutId id="2147483746" r:id="rId23"/>
    <p:sldLayoutId id="2147483747" r:id="rId24"/>
    <p:sldLayoutId id="2147483748" r:id="rId25"/>
    <p:sldLayoutId id="2147483749" r:id="rId26"/>
    <p:sldLayoutId id="2147483750" r:id="rId27"/>
    <p:sldLayoutId id="2147483751" r:id="rId2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8943-3072-4A0F-B266-C93CA22E3C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7"/>
    <p:sldLayoutId id="2147483754" r:id="rId18"/>
    <p:sldLayoutId id="2147483755" r:id="rId19"/>
    <p:sldLayoutId id="2147483756" r:id="rId20"/>
    <p:sldLayoutId id="2147483757" r:id="rId21"/>
    <p:sldLayoutId id="2147483758" r:id="rId22"/>
    <p:sldLayoutId id="2147483759" r:id="rId23"/>
    <p:sldLayoutId id="2147483760" r:id="rId24"/>
    <p:sldLayoutId id="2147483761" r:id="rId25"/>
    <p:sldLayoutId id="2147483762" r:id="rId26"/>
    <p:sldLayoutId id="2147483763" r:id="rId27"/>
    <p:sldLayoutId id="2147483764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71720" y="1142640"/>
            <a:ext cx="6858000" cy="18572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ложение и вычитание многозначных чисел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2714760" y="4429080"/>
            <a:ext cx="4000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Автор работы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Дубинкина Олеся Александровна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МБОУ «Таёжинская нош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д. Таёжная. 2016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C:\Users\ОЛЕСЯ\Desktop\i (13).jpg"/>
          <p:cNvPicPr/>
          <p:nvPr/>
        </p:nvPicPr>
        <p:blipFill>
          <a:blip r:embed="rId1"/>
          <a:stretch/>
        </p:blipFill>
        <p:spPr>
          <a:xfrm rot="600000">
            <a:off x="5592600" y="1058760"/>
            <a:ext cx="2733840" cy="204804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3" descr="C:\Users\ОЛЕСЯ\Desktop\i (14).jpg"/>
          <p:cNvPicPr/>
          <p:nvPr/>
        </p:nvPicPr>
        <p:blipFill>
          <a:blip r:embed="rId2"/>
          <a:stretch/>
        </p:blipFill>
        <p:spPr>
          <a:xfrm rot="21240000">
            <a:off x="998640" y="974520"/>
            <a:ext cx="2733480" cy="20476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4" descr="C:\Users\ОЛЕСЯ\Desktop\i (15).jpg"/>
          <p:cNvPicPr/>
          <p:nvPr/>
        </p:nvPicPr>
        <p:blipFill>
          <a:blip r:embed="rId3"/>
          <a:stretch/>
        </p:blipFill>
        <p:spPr>
          <a:xfrm>
            <a:off x="3233880" y="3375000"/>
            <a:ext cx="273348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Прямоугольник 1"/>
          <p:cNvSpPr/>
          <p:nvPr/>
        </p:nvSpPr>
        <p:spPr>
          <a:xfrm>
            <a:off x="2286000" y="3000240"/>
            <a:ext cx="4572000" cy="10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м  спасибо за работ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C:\Users\ОЛЕСЯ\Desktop\i.jpg"/>
          <p:cNvPicPr/>
          <p:nvPr/>
        </p:nvPicPr>
        <p:blipFill>
          <a:blip r:embed="rId1"/>
          <a:stretch/>
        </p:blipFill>
        <p:spPr>
          <a:xfrm>
            <a:off x="1116000" y="1125360"/>
            <a:ext cx="3076560" cy="20480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3" descr="C:\Users\ОЛЕСЯ\Desktop\i (1).jpg"/>
          <p:cNvPicPr/>
          <p:nvPr/>
        </p:nvPicPr>
        <p:blipFill>
          <a:blip r:embed="rId2"/>
          <a:stretch/>
        </p:blipFill>
        <p:spPr>
          <a:xfrm>
            <a:off x="6227640" y="1362240"/>
            <a:ext cx="1514520" cy="20476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" descr="C:\Users\ОЛЕСЯ\Desktop\i (2).jpg"/>
          <p:cNvPicPr/>
          <p:nvPr/>
        </p:nvPicPr>
        <p:blipFill>
          <a:blip r:embed="rId3"/>
          <a:stretch/>
        </p:blipFill>
        <p:spPr>
          <a:xfrm>
            <a:off x="2916360" y="3429000"/>
            <a:ext cx="308592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2" descr="C:\Users\ОЛЕСЯ\Desktop\i (3).jpg"/>
          <p:cNvPicPr/>
          <p:nvPr/>
        </p:nvPicPr>
        <p:blipFill>
          <a:blip r:embed="rId1"/>
          <a:stretch/>
        </p:blipFill>
        <p:spPr>
          <a:xfrm>
            <a:off x="1692360" y="1371600"/>
            <a:ext cx="1590480" cy="20480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3" descr="C:\Users\ОЛЕСЯ\Desktop\i (4).jpg"/>
          <p:cNvPicPr/>
          <p:nvPr/>
        </p:nvPicPr>
        <p:blipFill>
          <a:blip r:embed="rId2"/>
          <a:stretch/>
        </p:blipFill>
        <p:spPr>
          <a:xfrm>
            <a:off x="4067280" y="1197000"/>
            <a:ext cx="3085920" cy="20476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" descr="C:\Users\ОЛЕСЯ\Desktop\i (5).jpg"/>
          <p:cNvPicPr/>
          <p:nvPr/>
        </p:nvPicPr>
        <p:blipFill>
          <a:blip r:embed="rId3"/>
          <a:stretch/>
        </p:blipFill>
        <p:spPr>
          <a:xfrm>
            <a:off x="3132000" y="3573360"/>
            <a:ext cx="153360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Прямоугольник 1"/>
          <p:cNvSpPr/>
          <p:nvPr/>
        </p:nvSpPr>
        <p:spPr>
          <a:xfrm>
            <a:off x="2268360" y="1413000"/>
            <a:ext cx="30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346+х=3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2" descr="C:\Users\ОЛЕСЯ\Desktop\i (6).jpg"/>
          <p:cNvPicPr/>
          <p:nvPr/>
        </p:nvPicPr>
        <p:blipFill>
          <a:blip r:embed="rId1"/>
          <a:stretch/>
        </p:blipFill>
        <p:spPr>
          <a:xfrm>
            <a:off x="2195640" y="1125360"/>
            <a:ext cx="4689360" cy="3922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Прямоугольник 1"/>
          <p:cNvSpPr/>
          <p:nvPr/>
        </p:nvSpPr>
        <p:spPr>
          <a:xfrm>
            <a:off x="1692360" y="3105000"/>
            <a:ext cx="516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210    526      66      157   218  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К      Н        А        А       А     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2" descr="C:\Users\ОЛЕСЯ\Desktop\i (7).jpg"/>
          <p:cNvPicPr/>
          <p:nvPr/>
        </p:nvPicPr>
        <p:blipFill>
          <a:blip r:embed="rId1"/>
          <a:stretch/>
        </p:blipFill>
        <p:spPr>
          <a:xfrm>
            <a:off x="2700360" y="843120"/>
            <a:ext cx="3959280" cy="5038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2" descr="C:\Users\ОЛЕСЯ\Desktop\i (9).jpg"/>
          <p:cNvPicPr/>
          <p:nvPr/>
        </p:nvPicPr>
        <p:blipFill>
          <a:blip r:embed="rId1"/>
          <a:stretch/>
        </p:blipFill>
        <p:spPr>
          <a:xfrm rot="21300000">
            <a:off x="1098360" y="842760"/>
            <a:ext cx="3028680" cy="204768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3" descr="C:\Users\ОЛЕСЯ\Desktop\i (10).jpg"/>
          <p:cNvPicPr/>
          <p:nvPr/>
        </p:nvPicPr>
        <p:blipFill>
          <a:blip r:embed="rId2"/>
          <a:stretch/>
        </p:blipFill>
        <p:spPr>
          <a:xfrm rot="420000">
            <a:off x="5003280" y="713880"/>
            <a:ext cx="3076560" cy="20480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" descr="C:\Users\ОЛЕСЯ\Desktop\i (11).jpg"/>
          <p:cNvPicPr/>
          <p:nvPr/>
        </p:nvPicPr>
        <p:blipFill>
          <a:blip r:embed="rId3"/>
          <a:stretch/>
        </p:blipFill>
        <p:spPr>
          <a:xfrm rot="21300000">
            <a:off x="4968720" y="2924280"/>
            <a:ext cx="3181680" cy="20476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5" descr="C:\Users\ОЛЕСЯ\Desktop\i (12).jpg"/>
          <p:cNvPicPr/>
          <p:nvPr/>
        </p:nvPicPr>
        <p:blipFill>
          <a:blip r:embed="rId4"/>
          <a:stretch/>
        </p:blipFill>
        <p:spPr>
          <a:xfrm>
            <a:off x="1116000" y="3213000"/>
            <a:ext cx="360036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Прямоугольник 1"/>
          <p:cNvSpPr/>
          <p:nvPr/>
        </p:nvSpPr>
        <p:spPr>
          <a:xfrm>
            <a:off x="1258920" y="1490400"/>
            <a:ext cx="691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жно по лесу гуляем (шаги на мес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листочки собираем (наклоны впере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ирать их каждый 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о чудный листопад! (прыжки на месте, с хлопками в ладош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8:46:04Z</dcterms:created>
  <dc:creator>Admin</dc:creator>
  <dc:description/>
  <dc:language>en-US</dc:language>
  <cp:lastModifiedBy>ОЛЕСЯ</cp:lastModifiedBy>
  <dcterms:modified xsi:type="dcterms:W3CDTF">2016-02-07T12:08:34Z</dcterms:modified>
  <cp:revision>11</cp:revision>
  <dc:subject/>
  <dc:title>Слайд 1</dc:title>
</cp:coreProperties>
</file>