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908-EBF5-4885-BD67-88BA0B61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FE7-9E04-4D76-9FBC-383EC63D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A121E-3146-4D26-90B6-072D9B65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015AE-78F2-4623-80FE-0C307491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D3038-82CB-477B-9E1A-B626148A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0A45B-4B1C-498E-91DA-F4748FF8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E4A8F-37CF-487D-BDD4-08842281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01C37-385C-4EAD-9E6E-045B926A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FEBF6-38A0-40A0-AC68-CE80398B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18336-04AE-43DD-AFA6-E17D527A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0B33C-A2B9-42A2-A7F4-B6D90C1C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DF488-BB9D-40A7-B8A3-B13C4F0E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2E03-FE67-4352-BB33-C63F3903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B578F-3671-4427-9C21-A6D4CA82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F8FDA-B659-4B22-A9DD-C04F7DD3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9590F-F26D-438C-9548-40EB6118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F6EE6-4177-41E0-9B5E-D08C062E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97DC1-F40B-4ADE-8FE0-7036318F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04C21-6C46-4ED5-85A7-4B53818E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B65B8-86EF-41FE-BD96-D5EDF325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D03F9-3DE9-4257-B2B6-01068872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7B83B-8A5E-4EC4-9857-1BA15770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2D39B-9D66-43E5-AEEA-054E0DBB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EAE-6A21-401A-9504-A2822094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768A7-6A81-42B7-84FE-473A6C13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9EAAA-C1FD-4ED7-8F0A-ED748EE4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E54F0-4F6B-4C28-AD26-6206598A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266F0-76F9-40A1-939A-3C3F8B59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68EDC-727D-43EC-8023-D1B1C67A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FD839-AB69-46B3-A426-A6ADFC77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8E5AC-7653-42A1-82CE-1CA13281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D8513-D2FE-411B-91CE-D385BE7B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F42AF-5A7A-4F63-AB6E-1CCB5F8D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E7CE2-C910-4DF5-99AA-7BA3E52A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B02C-56E8-4DE2-8612-3E70D551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A0509-3672-49C2-899E-3C74F7A2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296AC-2382-45DA-96C9-363D844B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A50C1-64B7-4DC5-A1C3-DAF666E3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53E92-A27B-4AF9-AD11-D7665A1E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521AD-453C-4CC2-86E6-86754EAD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40AEE-A6A1-4FED-9C1C-0B1E507D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F63C9-8D90-4FB8-8B11-A8C7D822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55447-9C33-4540-B73E-4B59EB7E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67C21-0841-4405-9286-32E2F5F8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DAF86-4185-4821-BE7E-CF2D81C6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B895-746C-43BD-9727-740AD45E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1843E-00C7-40AD-99E7-A1B39A00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A170E-3759-49FB-92B2-0AB49187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45D7D-0EBA-4C97-84A4-9B378BAA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C9D4D-B376-49C8-9F80-6C17FD9C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3A6D0-7D77-4A10-AF98-BF726A94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9E97-7955-4031-A2C5-63F529BB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07F8-1600-4C4A-B0E8-74B9F48C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0B55-BD83-4D6E-BAF9-7AE7CCCB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2A30-EAEB-43B1-9380-B0B86809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EBD2-7ADB-4979-9C7A-B74A6D18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0773-0403-4CEF-88C9-02D79320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002F-00E5-4A6F-AC20-45AA8918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BA6E-73FA-4A80-ABD8-6609E67B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5EC9-12A3-4BF7-BD21-708018B4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1646-EBC6-42C2-A89D-050747A8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F9D1-8460-43C2-9B8B-9D6F10E9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25115-0D94-4B76-A96E-FCFFF913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A815-6201-4633-884F-B1B09DB5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0982F-1BA8-461B-B1DA-0AD92636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1C974-476A-406E-9781-DE2B4060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77A06-F0A2-4038-8E5B-118AED31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F3B-4CB1-4836-92FB-1DFE83AC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0D9D7-2958-4C35-BB24-8201C651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6ACEB-6C80-46CB-AB9C-41472718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FAD4-8E73-4C6B-BBFC-EAF74215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6E2C1-02E4-441F-B2D5-A74F78DA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B2CA3-96F4-44BC-BC50-8FDCDE73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F9241-92AF-4507-B495-8E97EF9D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520AD-20D6-46D7-B468-C2C9B8E7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CA97D-513D-4C8B-BB6C-CB962C98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C23F0-C6A4-470B-A76E-0FDCC7E4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815C7-B3D5-4BBC-B0A8-3FD038B6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018D-93F8-4414-90E8-1574935B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F7A3B-180A-4ACE-8BFA-6A7A13F0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8EC85-0F39-48B8-B7AF-EA05670F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0979E-78C7-435C-A35C-0B67468C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EBCE9-33AB-4022-876C-C0ADE839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DE37A-7994-4F99-A299-0F1295BD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F4900-D060-4332-95B8-79E091DD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FF13B-9F23-4BEF-9D4F-853D339D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04D98-28B5-4A19-A870-D8A1BD71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114EB-F994-4972-ACAD-27E5EF9E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53D75-F9FE-4583-B3C3-2096CF8E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FE1-5E08-4C42-AB5C-1169BF7D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87310-817D-46CA-8BD4-540F105C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63502-385C-4B21-880A-11EF938C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38D89-1C45-44C7-9DA9-33EF0D01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EE33F-8E47-44F3-BF02-A52B597D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E50ED-EDF0-4726-9721-C267DBD1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2CB97-F10B-4998-BCBB-8EDB96B9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B5C5F-E4AB-4566-952E-E9B032E7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96EED-4D44-4E77-B304-39E40403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1D402-E270-445B-8F1E-21BA0C27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AE9F4-519A-4403-A688-40FC5075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B763-8960-415A-9D36-1561E999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59D25-E869-4221-98F7-05D630EA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0D085-8D4A-4D76-9A65-3ADAE9A9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BD99A-72DB-44BE-9CE2-03034C51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04AB4-800B-4BFF-9DC1-A50759DF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1E7A0-1DA1-47DE-B344-9BF7750C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6E6F2-6CA2-42E8-97B6-0AD4DA92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CDFF3-C698-4D10-BD22-37AA5789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19306-0FA4-4312-8B4A-A56C01EC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50E94-30DD-4122-9DF0-F6034BD1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0A833-D449-4931-B19B-D35D86C0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1C4-4260-4FAB-A73F-760180FB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627E0-76DB-4BEF-A861-881C1E2B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EEE16-1D62-4986-93F8-B8E107B6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38941-773C-4152-AA58-DA058B9D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EE1F3-AB1B-46E1-9403-AD976EF5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67963-561F-4EF2-A604-31AFA290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12415-9F53-44CD-A305-44FB78BB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26F67-1E8C-4F42-B837-FD27C897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8791B-E321-4ECE-A669-43767F64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E2669-0B29-47F7-9A42-774F3D1D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E85EC-E0C4-43A3-B785-F999241C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4B6-0CF8-476A-9A95-034680BB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1685D-4E04-46BD-9746-C603B08B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AF3D9-3BDA-4AFA-9676-1EEDC1FB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9683C-F570-42BE-B57D-12211BFB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2A5DA-DACF-4C62-8318-CBBCA4DD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1D937-C1DB-48AA-9899-5A724123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FDD2D-7C64-4329-82C9-921F7032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EA99A-6C9A-4545-96BE-4C08F2E0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33219-1588-4F00-BBBB-718E7D76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46026-D9C9-4776-A017-2C4E53DE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98C72-E8CD-4F91-A258-FA152A4F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6F4-5BE6-46BB-B140-11538872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A886F-7AE6-4AF6-929E-6F515785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3DD00-DD7F-411D-AA63-E974663D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0E951-487A-4557-8E07-689FACEB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F9D84-383B-4E1F-B7B3-33FC309F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88305-3430-4D91-BE01-D289B449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30687-BA35-428D-B147-D1B4E075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6A47A-0740-419B-B477-1E815983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4A413-1EC6-4421-8688-24EE3F02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86E95-E325-459F-B142-CE296149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C8521-F5F0-47A8-B075-B359A015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09.xml"/><Relationship Id="rId18" Type="http://schemas.openxmlformats.org/officeDocument/2006/relationships/slideLayout" Target="../slideLayouts/slideLayout110.xml"/><Relationship Id="rId19" Type="http://schemas.openxmlformats.org/officeDocument/2006/relationships/slideLayout" Target="../slideLayouts/slideLayout111.xml"/><Relationship Id="rId20" Type="http://schemas.openxmlformats.org/officeDocument/2006/relationships/slideLayout" Target="../slideLayouts/slideLayout112.xml"/><Relationship Id="rId21" Type="http://schemas.openxmlformats.org/officeDocument/2006/relationships/slideLayout" Target="../slideLayouts/slideLayout113.xml"/><Relationship Id="rId22" Type="http://schemas.openxmlformats.org/officeDocument/2006/relationships/slideLayout" Target="../slideLayouts/slideLayout114.xml"/><Relationship Id="rId23" Type="http://schemas.openxmlformats.org/officeDocument/2006/relationships/slideLayout" Target="../slideLayouts/slideLayout115.xml"/><Relationship Id="rId24" Type="http://schemas.openxmlformats.org/officeDocument/2006/relationships/slideLayout" Target="../slideLayouts/slideLayout116.xml"/><Relationship Id="rId25" Type="http://schemas.openxmlformats.org/officeDocument/2006/relationships/slideLayout" Target="../slideLayouts/slideLayout117.xml"/><Relationship Id="rId26" Type="http://schemas.openxmlformats.org/officeDocument/2006/relationships/slideLayout" Target="../slideLayouts/slideLayout118.xml"/><Relationship Id="rId27" Type="http://schemas.openxmlformats.org/officeDocument/2006/relationships/slideLayout" Target="../slideLayouts/slideLayout119.xml"/><Relationship Id="rId2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21.xml"/><Relationship Id="rId18" Type="http://schemas.openxmlformats.org/officeDocument/2006/relationships/slideLayout" Target="../slideLayouts/slideLayout122.xml"/><Relationship Id="rId19" Type="http://schemas.openxmlformats.org/officeDocument/2006/relationships/slideLayout" Target="../slideLayouts/slideLayout123.xml"/><Relationship Id="rId20" Type="http://schemas.openxmlformats.org/officeDocument/2006/relationships/slideLayout" Target="../slideLayouts/slideLayout124.xml"/><Relationship Id="rId21" Type="http://schemas.openxmlformats.org/officeDocument/2006/relationships/slideLayout" Target="../slideLayouts/slideLayout125.xml"/><Relationship Id="rId22" Type="http://schemas.openxmlformats.org/officeDocument/2006/relationships/slideLayout" Target="../slideLayouts/slideLayout126.xml"/><Relationship Id="rId23" Type="http://schemas.openxmlformats.org/officeDocument/2006/relationships/slideLayout" Target="../slideLayouts/slideLayout127.xml"/><Relationship Id="rId24" Type="http://schemas.openxmlformats.org/officeDocument/2006/relationships/slideLayout" Target="../slideLayouts/slideLayout128.xml"/><Relationship Id="rId25" Type="http://schemas.openxmlformats.org/officeDocument/2006/relationships/slideLayout" Target="../slideLayouts/slideLayout129.xml"/><Relationship Id="rId26" Type="http://schemas.openxmlformats.org/officeDocument/2006/relationships/slideLayout" Target="../slideLayouts/slideLayout130.xml"/><Relationship Id="rId27" Type="http://schemas.openxmlformats.org/officeDocument/2006/relationships/slideLayout" Target="../slideLayouts/slideLayout131.xml"/><Relationship Id="rId2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3.xml"/><Relationship Id="rId18" Type="http://schemas.openxmlformats.org/officeDocument/2006/relationships/slideLayout" Target="../slideLayouts/slideLayout134.xml"/><Relationship Id="rId19" Type="http://schemas.openxmlformats.org/officeDocument/2006/relationships/slideLayout" Target="../slideLayouts/slideLayout135.xml"/><Relationship Id="rId20" Type="http://schemas.openxmlformats.org/officeDocument/2006/relationships/slideLayout" Target="../slideLayouts/slideLayout136.xml"/><Relationship Id="rId21" Type="http://schemas.openxmlformats.org/officeDocument/2006/relationships/slideLayout" Target="../slideLayouts/slideLayout137.xml"/><Relationship Id="rId22" Type="http://schemas.openxmlformats.org/officeDocument/2006/relationships/slideLayout" Target="../slideLayouts/slideLayout138.xml"/><Relationship Id="rId23" Type="http://schemas.openxmlformats.org/officeDocument/2006/relationships/slideLayout" Target="../slideLayouts/slideLayout139.xml"/><Relationship Id="rId24" Type="http://schemas.openxmlformats.org/officeDocument/2006/relationships/slideLayout" Target="../slideLayouts/slideLayout140.xml"/><Relationship Id="rId25" Type="http://schemas.openxmlformats.org/officeDocument/2006/relationships/slideLayout" Target="../slideLayouts/slideLayout141.xml"/><Relationship Id="rId26" Type="http://schemas.openxmlformats.org/officeDocument/2006/relationships/slideLayout" Target="../slideLayouts/slideLayout142.xml"/><Relationship Id="rId27" Type="http://schemas.openxmlformats.org/officeDocument/2006/relationships/slideLayout" Target="../slideLayouts/slideLayout143.xml"/><Relationship Id="rId2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85.xml"/><Relationship Id="rId18" Type="http://schemas.openxmlformats.org/officeDocument/2006/relationships/slideLayout" Target="../slideLayouts/slideLayout86.xml"/><Relationship Id="rId19" Type="http://schemas.openxmlformats.org/officeDocument/2006/relationships/slideLayout" Target="../slideLayouts/slideLayout87.xml"/><Relationship Id="rId20" Type="http://schemas.openxmlformats.org/officeDocument/2006/relationships/slideLayout" Target="../slideLayouts/slideLayout88.xml"/><Relationship Id="rId21" Type="http://schemas.openxmlformats.org/officeDocument/2006/relationships/slideLayout" Target="../slideLayouts/slideLayout89.xml"/><Relationship Id="rId22" Type="http://schemas.openxmlformats.org/officeDocument/2006/relationships/slideLayout" Target="../slideLayouts/slideLayout90.xml"/><Relationship Id="rId23" Type="http://schemas.openxmlformats.org/officeDocument/2006/relationships/slideLayout" Target="../slideLayouts/slideLayout91.xml"/><Relationship Id="rId24" Type="http://schemas.openxmlformats.org/officeDocument/2006/relationships/slideLayout" Target="../slideLayouts/slideLayout92.xml"/><Relationship Id="rId25" Type="http://schemas.openxmlformats.org/officeDocument/2006/relationships/slideLayout" Target="../slideLayouts/slideLayout93.xml"/><Relationship Id="rId26" Type="http://schemas.openxmlformats.org/officeDocument/2006/relationships/slideLayout" Target="../slideLayouts/slideLayout94.xml"/><Relationship Id="rId27" Type="http://schemas.openxmlformats.org/officeDocument/2006/relationships/slideLayout" Target="../slideLayouts/slideLayout95.xml"/><Relationship Id="rId2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97.xml"/><Relationship Id="rId18" Type="http://schemas.openxmlformats.org/officeDocument/2006/relationships/slideLayout" Target="../slideLayouts/slideLayout98.xml"/><Relationship Id="rId19" Type="http://schemas.openxmlformats.org/officeDocument/2006/relationships/slideLayout" Target="../slideLayouts/slideLayout99.xml"/><Relationship Id="rId20" Type="http://schemas.openxmlformats.org/officeDocument/2006/relationships/slideLayout" Target="../slideLayouts/slideLayout100.xml"/><Relationship Id="rId21" Type="http://schemas.openxmlformats.org/officeDocument/2006/relationships/slideLayout" Target="../slideLayouts/slideLayout101.xml"/><Relationship Id="rId22" Type="http://schemas.openxmlformats.org/officeDocument/2006/relationships/slideLayout" Target="../slideLayouts/slideLayout102.xml"/><Relationship Id="rId23" Type="http://schemas.openxmlformats.org/officeDocument/2006/relationships/slideLayout" Target="../slideLayouts/slideLayout103.xml"/><Relationship Id="rId24" Type="http://schemas.openxmlformats.org/officeDocument/2006/relationships/slideLayout" Target="../slideLayouts/slideLayout104.xml"/><Relationship Id="rId25" Type="http://schemas.openxmlformats.org/officeDocument/2006/relationships/slideLayout" Target="../slideLayouts/slideLayout105.xml"/><Relationship Id="rId26" Type="http://schemas.openxmlformats.org/officeDocument/2006/relationships/slideLayout" Target="../slideLayouts/slideLayout106.xml"/><Relationship Id="rId27" Type="http://schemas.openxmlformats.org/officeDocument/2006/relationships/slideLayout" Target="../slideLayouts/slideLayout107.xml"/><Relationship Id="rId2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A32A-A4B8-4500-97C4-C3291AA3CA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16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75E5-AE10-40D7-AFD3-83D5C80982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7"/>
    <p:sldLayoutId id="2147483767" r:id="rId18"/>
    <p:sldLayoutId id="2147483768" r:id="rId19"/>
    <p:sldLayoutId id="2147483769" r:id="rId20"/>
    <p:sldLayoutId id="2147483770" r:id="rId21"/>
    <p:sldLayoutId id="2147483771" r:id="rId22"/>
    <p:sldLayoutId id="2147483772" r:id="rId23"/>
    <p:sldLayoutId id="2147483773" r:id="rId24"/>
    <p:sldLayoutId id="2147483774" r:id="rId25"/>
    <p:sldLayoutId id="2147483775" r:id="rId26"/>
    <p:sldLayoutId id="2147483776" r:id="rId27"/>
    <p:sldLayoutId id="2147483777" r:id="rId2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2C3A-0038-4E33-884F-A183BBCA0A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7"/>
    <p:sldLayoutId id="2147483780" r:id="rId18"/>
    <p:sldLayoutId id="2147483781" r:id="rId19"/>
    <p:sldLayoutId id="2147483782" r:id="rId20"/>
    <p:sldLayoutId id="2147483783" r:id="rId21"/>
    <p:sldLayoutId id="2147483784" r:id="rId22"/>
    <p:sldLayoutId id="2147483785" r:id="rId23"/>
    <p:sldLayoutId id="2147483786" r:id="rId24"/>
    <p:sldLayoutId id="2147483787" r:id="rId25"/>
    <p:sldLayoutId id="2147483788" r:id="rId26"/>
    <p:sldLayoutId id="2147483789" r:id="rId27"/>
    <p:sldLayoutId id="2147483790" r:id="rId2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C74F-0829-4DC5-90D2-DF4CB95858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7"/>
    <p:sldLayoutId id="2147483793" r:id="rId18"/>
    <p:sldLayoutId id="2147483794" r:id="rId19"/>
    <p:sldLayoutId id="2147483795" r:id="rId20"/>
    <p:sldLayoutId id="2147483796" r:id="rId21"/>
    <p:sldLayoutId id="2147483797" r:id="rId22"/>
    <p:sldLayoutId id="2147483798" r:id="rId23"/>
    <p:sldLayoutId id="2147483799" r:id="rId24"/>
    <p:sldLayoutId id="2147483800" r:id="rId25"/>
    <p:sldLayoutId id="2147483801" r:id="rId26"/>
    <p:sldLayoutId id="2147483802" r:id="rId27"/>
    <p:sldLayoutId id="2147483803" r:id="rId2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F543-86AF-4C49-9CCE-0A16B124DE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2"/>
          <p:cNvSpPr/>
          <p:nvPr/>
        </p:nvSpPr>
        <p:spPr>
          <a:xfrm>
            <a:off x="500040" y="285840"/>
            <a:ext cx="8215200" cy="585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2030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5" descr="i (5).jpg"/>
          <p:cNvPicPr/>
          <p:nvPr/>
        </p:nvPicPr>
        <p:blipFill>
          <a:blip r:embed="rId3"/>
          <a:stretch/>
        </p:blipFill>
        <p:spPr>
          <a:xfrm>
            <a:off x="7000920" y="5357880"/>
            <a:ext cx="1838160" cy="1357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5"/>
          <p:cNvSpPr/>
          <p:nvPr/>
        </p:nvSpPr>
        <p:spPr>
          <a:xfrm>
            <a:off x="165240" y="657216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7" descr="божья коровка.jpg"/>
          <p:cNvPicPr/>
          <p:nvPr/>
        </p:nvPicPr>
        <p:blipFill>
          <a:blip r:embed="rId4"/>
          <a:stretch/>
        </p:blipFill>
        <p:spPr>
          <a:xfrm>
            <a:off x="7500960" y="5051520"/>
            <a:ext cx="714240" cy="577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2928600" y="7072200"/>
            <a:ext cx="5713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7E39-49D8-4E33-A4D2-ECA0E15024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3286080" y="7000920"/>
            <a:ext cx="5716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0E11-6252-483C-B40D-B5BAD5A59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7ABA-6CBA-4C33-A570-10CFABDB16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4233-31C5-4298-8083-50A3154F32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1E8A-6AB2-4286-99EB-A7042A207D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977B-6FF7-49C1-BB1B-104DDB94E5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7"/>
    <p:sldLayoutId id="2147483741" r:id="rId18"/>
    <p:sldLayoutId id="2147483742" r:id="rId19"/>
    <p:sldLayoutId id="2147483743" r:id="rId20"/>
    <p:sldLayoutId id="2147483744" r:id="rId21"/>
    <p:sldLayoutId id="2147483745" r:id="rId22"/>
    <p:sldLayoutId id="2147483746" r:id="rId23"/>
    <p:sldLayoutId id="2147483747" r:id="rId24"/>
    <p:sldLayoutId id="2147483748" r:id="rId25"/>
    <p:sldLayoutId id="2147483749" r:id="rId26"/>
    <p:sldLayoutId id="2147483750" r:id="rId27"/>
    <p:sldLayoutId id="2147483751" r:id="rId2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57B1-6E38-4E78-A714-4334E317BB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7"/>
    <p:sldLayoutId id="2147483754" r:id="rId18"/>
    <p:sldLayoutId id="2147483755" r:id="rId19"/>
    <p:sldLayoutId id="2147483756" r:id="rId20"/>
    <p:sldLayoutId id="2147483757" r:id="rId21"/>
    <p:sldLayoutId id="2147483758" r:id="rId22"/>
    <p:sldLayoutId id="2147483759" r:id="rId23"/>
    <p:sldLayoutId id="2147483760" r:id="rId24"/>
    <p:sldLayoutId id="2147483761" r:id="rId25"/>
    <p:sldLayoutId id="2147483762" r:id="rId26"/>
    <p:sldLayoutId id="2147483763" r:id="rId27"/>
    <p:sldLayoutId id="2147483764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71720" y="1142640"/>
            <a:ext cx="6858000" cy="18572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жение и вычитание многозначных чисе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2714760" y="4429080"/>
            <a:ext cx="4000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Автор работы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Дубинкина Олеся Александровна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МБОУ «Таёжинская нош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д. Таёжная. 2016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C:\Users\ОЛЕСЯ\Desktop\i (13).jpg"/>
          <p:cNvPicPr/>
          <p:nvPr/>
        </p:nvPicPr>
        <p:blipFill>
          <a:blip r:embed="rId1"/>
          <a:stretch/>
        </p:blipFill>
        <p:spPr>
          <a:xfrm rot="600000">
            <a:off x="5592600" y="1058760"/>
            <a:ext cx="2733840" cy="20480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" descr="C:\Users\ОЛЕСЯ\Desktop\i (14).jpg"/>
          <p:cNvPicPr/>
          <p:nvPr/>
        </p:nvPicPr>
        <p:blipFill>
          <a:blip r:embed="rId2"/>
          <a:stretch/>
        </p:blipFill>
        <p:spPr>
          <a:xfrm rot="21240000">
            <a:off x="998640" y="974520"/>
            <a:ext cx="2733480" cy="20476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C:\Users\ОЛЕСЯ\Desktop\i (15).jpg"/>
          <p:cNvPicPr/>
          <p:nvPr/>
        </p:nvPicPr>
        <p:blipFill>
          <a:blip r:embed="rId3"/>
          <a:stretch/>
        </p:blipFill>
        <p:spPr>
          <a:xfrm>
            <a:off x="3233880" y="3375000"/>
            <a:ext cx="273348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Прямоугольник 1"/>
          <p:cNvSpPr/>
          <p:nvPr/>
        </p:nvSpPr>
        <p:spPr>
          <a:xfrm>
            <a:off x="2286000" y="3000240"/>
            <a:ext cx="457200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  спасибо за работ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C:\Users\ОЛЕСЯ\Desktop\i.jpg"/>
          <p:cNvPicPr/>
          <p:nvPr/>
        </p:nvPicPr>
        <p:blipFill>
          <a:blip r:embed="rId1"/>
          <a:stretch/>
        </p:blipFill>
        <p:spPr>
          <a:xfrm>
            <a:off x="1116000" y="112536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C:\Users\ОЛЕСЯ\Desktop\i (1).jpg"/>
          <p:cNvPicPr/>
          <p:nvPr/>
        </p:nvPicPr>
        <p:blipFill>
          <a:blip r:embed="rId2"/>
          <a:stretch/>
        </p:blipFill>
        <p:spPr>
          <a:xfrm>
            <a:off x="6227640" y="1362240"/>
            <a:ext cx="1514520" cy="20476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C:\Users\ОЛЕСЯ\Desktop\i (2).jpg"/>
          <p:cNvPicPr/>
          <p:nvPr/>
        </p:nvPicPr>
        <p:blipFill>
          <a:blip r:embed="rId3"/>
          <a:stretch/>
        </p:blipFill>
        <p:spPr>
          <a:xfrm>
            <a:off x="2916360" y="342900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C:\Users\ОЛЕСЯ\Desktop\i (3).jpg"/>
          <p:cNvPicPr/>
          <p:nvPr/>
        </p:nvPicPr>
        <p:blipFill>
          <a:blip r:embed="rId1"/>
          <a:stretch/>
        </p:blipFill>
        <p:spPr>
          <a:xfrm>
            <a:off x="1692360" y="1371600"/>
            <a:ext cx="1590480" cy="20480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" descr="C:\Users\ОЛЕСЯ\Desktop\i (4).jpg"/>
          <p:cNvPicPr/>
          <p:nvPr/>
        </p:nvPicPr>
        <p:blipFill>
          <a:blip r:embed="rId2"/>
          <a:stretch/>
        </p:blipFill>
        <p:spPr>
          <a:xfrm>
            <a:off x="4067280" y="1197000"/>
            <a:ext cx="3085920" cy="20476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C:\Users\ОЛЕСЯ\Desktop\i (5).jpg"/>
          <p:cNvPicPr/>
          <p:nvPr/>
        </p:nvPicPr>
        <p:blipFill>
          <a:blip r:embed="rId3"/>
          <a:stretch/>
        </p:blipFill>
        <p:spPr>
          <a:xfrm>
            <a:off x="3132000" y="3573360"/>
            <a:ext cx="153360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Прямоугольник 1"/>
          <p:cNvSpPr/>
          <p:nvPr/>
        </p:nvSpPr>
        <p:spPr>
          <a:xfrm>
            <a:off x="2268360" y="1413000"/>
            <a:ext cx="30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346+х=3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C:\Users\ОЛЕСЯ\Desktop\i (6).jpg"/>
          <p:cNvPicPr/>
          <p:nvPr/>
        </p:nvPicPr>
        <p:blipFill>
          <a:blip r:embed="rId1"/>
          <a:stretch/>
        </p:blipFill>
        <p:spPr>
          <a:xfrm>
            <a:off x="2195640" y="1125360"/>
            <a:ext cx="4689360" cy="3922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1"/>
          <p:cNvSpPr/>
          <p:nvPr/>
        </p:nvSpPr>
        <p:spPr>
          <a:xfrm>
            <a:off x="1692360" y="3105000"/>
            <a:ext cx="516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210    526      66      157   218  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      Н        А        А       А     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C:\Users\ОЛЕСЯ\Desktop\i (7).jpg"/>
          <p:cNvPicPr/>
          <p:nvPr/>
        </p:nvPicPr>
        <p:blipFill>
          <a:blip r:embed="rId1"/>
          <a:stretch/>
        </p:blipFill>
        <p:spPr>
          <a:xfrm>
            <a:off x="2700360" y="843120"/>
            <a:ext cx="3959280" cy="503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C:\Users\ОЛЕСЯ\Desktop\i (9).jpg"/>
          <p:cNvPicPr/>
          <p:nvPr/>
        </p:nvPicPr>
        <p:blipFill>
          <a:blip r:embed="rId1"/>
          <a:stretch/>
        </p:blipFill>
        <p:spPr>
          <a:xfrm rot="21300000">
            <a:off x="1098360" y="842760"/>
            <a:ext cx="3028680" cy="20476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3" descr="C:\Users\ОЛЕСЯ\Desktop\i (10).jpg"/>
          <p:cNvPicPr/>
          <p:nvPr/>
        </p:nvPicPr>
        <p:blipFill>
          <a:blip r:embed="rId2"/>
          <a:stretch/>
        </p:blipFill>
        <p:spPr>
          <a:xfrm rot="420000">
            <a:off x="5003280" y="71388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C:\Users\ОЛЕСЯ\Desktop\i (11).jpg"/>
          <p:cNvPicPr/>
          <p:nvPr/>
        </p:nvPicPr>
        <p:blipFill>
          <a:blip r:embed="rId3"/>
          <a:stretch/>
        </p:blipFill>
        <p:spPr>
          <a:xfrm rot="21300000">
            <a:off x="4968720" y="2924280"/>
            <a:ext cx="3181680" cy="20476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5" descr="C:\Users\ОЛЕСЯ\Desktop\i (12).jpg"/>
          <p:cNvPicPr/>
          <p:nvPr/>
        </p:nvPicPr>
        <p:blipFill>
          <a:blip r:embed="rId4"/>
          <a:stretch/>
        </p:blipFill>
        <p:spPr>
          <a:xfrm>
            <a:off x="1116000" y="3213000"/>
            <a:ext cx="360036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Прямоугольник 1"/>
          <p:cNvSpPr/>
          <p:nvPr/>
        </p:nvSpPr>
        <p:spPr>
          <a:xfrm>
            <a:off x="1258920" y="1490400"/>
            <a:ext cx="691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жно по лесу гуляем (шаги на ме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листочки собираем (наклоны впере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ирать их каждый 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чудный листопад! (прыжки на месте, с хлопками в ладош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8:46:04Z</dcterms:created>
  <dc:creator>Admin</dc:creator>
  <dc:description/>
  <dc:language>en-US</dc:language>
  <cp:lastModifiedBy>ОЛЕСЯ</cp:lastModifiedBy>
  <dcterms:modified xsi:type="dcterms:W3CDTF">2016-02-07T12:08:34Z</dcterms:modified>
  <cp:revision>11</cp:revision>
  <dc:subject/>
  <dc:title>Слайд 1</dc:title>
</cp:coreProperties>
</file>