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0.jpeg" ContentType="image/jpeg"/>
  <Override PartName="/ppt/media/image24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CC37-D4BF-4BAE-AEE1-7D24ADDC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36EA-F932-44CA-8198-8083FEDA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07BAF-2634-4FF6-82D4-3306926A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051E6-3A59-461B-B369-EF441080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9F585-3CF3-4D69-9808-1E100117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12B22-5B82-49AD-91C2-5066625B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1DBA6-B530-49FD-9C17-467EAA46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D7579-6C6F-4B6A-847A-B9AB8044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1B9BF-C8CB-4EBA-8564-126D824E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AC93A-B432-4CA5-9ADF-350AAC19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40286-FA96-4335-B1C0-55166871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35431-BA90-4ADA-8165-5EF52CCE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0546-0518-4BB2-82F4-5FBCB82E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12C7E-EC1D-4143-95F4-479E0B48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9ADC9-F09B-4433-8254-07E555D8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7CABF-9A0F-4D3B-87C2-C3975D06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A2C67-2DDB-4A06-B7DF-07ADF15C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90007-1791-4911-BD2A-606F613F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8BFDE-C455-4373-B8EA-1F8EC8FD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E381C-699C-41FC-A4FE-9434F337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15CD4-0183-4DF8-96B4-87EB8193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2771B-47F3-4B1C-9B26-19395346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3E85E-999D-4E94-B37A-1B313E52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CC3B-84DE-40DB-95DC-7E27EA9B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C920B-404A-406E-9AAC-6E721792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9D065-7A2C-4C97-A3CF-9AB6008E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27B21-6B41-419C-BA10-4AD444B0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129A0-6355-461E-AD78-9D256966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270DB-5488-4A5E-92C5-42D14890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10795-6319-4A64-A6B8-025D4B4E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6A647-AC46-42EF-AC8B-33DC1CEF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191A1-BEAB-4987-9EAA-1F7B45D2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FEE44-E153-44CA-921E-FF11BBDA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8C2CB-A3B6-4AD6-B4AD-AD1E684B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8811-050A-491D-A9A5-53561432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94B71-7B80-48C4-B494-C9E260CF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0DAC2-5038-4033-97F4-A9A98C3C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8007D-B167-4FF2-8EB9-23FBB913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DA345-398F-47F4-B729-F74467FC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D382C-CE1B-43C4-B2BE-98637656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C4C2D-7285-4AA4-9009-F299B98B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FB9CE-FE8C-4536-931E-DFE312A4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24EEF-30BD-40C5-98F0-B3F22AB1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5E879-14EA-48B7-9FD1-66A6AD33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F4677-F179-4F17-B480-CD040101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C114-DA85-4AE1-9261-B6AABBBA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A3EA3-7D9C-480C-AFCB-0B5EFC58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2B984-0DD0-42A5-83CE-CD0FB014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62A62-C4B4-47DF-881A-44356816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A63C2-0984-49E9-B7BC-62ADFA50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6E59A-54AF-441F-9AA1-0F7E3E18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9C9F-0463-4648-9C23-FB99F443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BD2B-0566-483E-81A1-E6CF059F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6658-0108-4EFA-B4A3-CA852C87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1E7C-DB2C-42F7-858A-33D12E2F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B9C6-8EB1-456A-9203-544EE3C4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B47-7711-4E0A-893B-213E1265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2A18-960C-43B5-8706-D3C3DEAE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2D5C-5FE4-4581-8973-4030DA45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2D9A-1322-44D9-ABC6-54155781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8127-AD9F-4027-A26C-E83C57C8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64A0-122E-4B6F-A2DF-87445C1B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05B7D-F3B1-43A6-8304-B954D5BD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518A8-960B-4A75-8B3A-A38C6C28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C2276-05B1-474A-BFF5-05BEAAC4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71F01-F20B-4235-82A5-8ADFE307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D575A-CE88-47C7-9350-2DD956FE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0C21-4F63-4653-9733-2C71DB40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7E996-6817-4930-8F67-2DC23FA9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AB4E4-21DD-439A-AED2-B266311E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1ACBC-3B00-4904-99F3-5F8815AC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E3C46-463B-42F2-AE16-C4C00BAF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E7BE9-5E0E-4727-918C-B6612814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D3B23-BB40-46BD-8AB8-20D261B9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73A92-434C-45A7-9AF4-1BF07FA8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2F3D2-4366-43B1-92E3-EBA074ED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72D95-3AE6-4888-8829-CD6A4C24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4EA4D-FE17-4EE0-9C71-61736851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A6B0-6C15-42B7-B7D5-57CCA74E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C4F2B-3169-4673-B0FF-7D0E0B20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DB508-BB79-47A5-A5A4-8FBB3D57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D1FB4-EBBA-40CF-A337-BA2A702E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74A0D-D6A7-46E9-825D-7807C7F7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6B321-6478-4F33-AE73-4ADBF1E1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DBBC8-2E24-4CFB-9220-DE115EC6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CF98C-C250-4E01-A651-D503EFC1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976FA-AA59-43A9-881C-A08305D8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52009-A0D5-42CC-AAB6-79FEED90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E62A4-541B-4ABC-952C-00B697D2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A5DD-3ECF-4338-B29B-BBDDE607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0EE27-DD3F-4887-8DE7-802BB31D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7E070-8FB7-4A86-9651-F0FA32C2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9CC99-0BAE-4246-ABB0-4168CFBC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1605F-3B84-4421-8CF9-507E7BF9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161A4-D240-4B7B-A88B-94E46E14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CE27B-35E1-496A-A691-BCC528EC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41F8E-C2B3-40F0-A21A-51EBE025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E0AA4-D5EE-454A-B91D-4BF138A0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10244-DF63-43D5-ABE2-453D601C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B1711-21FF-4943-95F9-CEFD9F87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9FE-83FA-488B-8A37-1D6AD0FA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6D379-2D7C-478E-8E68-A81603E3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A497A-681B-4B6D-B067-FF6FBE69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79EF2-2848-4CFE-8B71-A693F446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4A378-5052-465E-BAA7-18BCF8D1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58781-FF39-4637-8F5E-6C1848B0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4FE8B-F3DC-4AD6-822C-535BEB2F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40E89-C85E-4553-BD11-0638AF61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1428B-7888-4789-BF14-D6958D99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DC55D-09C3-4D7F-A94B-AF4883E6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3A384-8839-4CCD-8CCC-E29CB4CA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BD48-B81B-4E20-80D4-E1E18D70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2EF76-9FB4-4638-A740-2526DC5F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9FB44-C688-4D72-BCD3-D047604D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7D439-2EBE-4132-AA46-59CCDA55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ACCD6-F463-4E8D-A005-562127FF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337F8-5091-4CE5-A42D-A0B308B5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FCF47-6D40-484B-A952-E6B9C37A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F3141-834B-43DD-9013-972067C1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407E3-B41B-41DE-9D83-78182553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E3ADB-4256-45E2-AFA6-CF015D36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E8B9A-FF8E-4138-B420-2BB4A9C7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4FAA-B417-47D0-B40D-5C90A803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D895F-8BAB-4529-A70E-83521BE2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9B0C3-A653-4E5D-BC22-55823C7E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F8C0E-69D6-4038-BFAC-B2832195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A44A5-48E7-44B8-94EF-EF6B3912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9278E-8D10-49ED-8158-F1EE4EEA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94462-8152-4C94-B591-E03F048F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EDD55-9E83-4D6D-9D6A-E0E18926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49C92-7DBA-4ABC-8464-4EB082B8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1193B-B167-41DA-B392-D79D96B5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8E481-46C9-4AF7-A4DE-DCE9821A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4678-B59D-4F29-BF7E-5014174D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6DF95-0EB1-4225-8861-D1A61A61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8FA3F-F4C6-4EE4-9794-885C4887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36E5B-0FD8-4C09-9885-311A39B1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034C8-2F85-4DD5-8AAC-A23D8B4E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AC254-EEC3-45CB-857D-B2A99438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3002B-26E0-4F9B-9E50-6099329D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C2C2D-19C2-4EE9-83CE-CC6B673B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6BA55-9E34-4020-B17D-A154F693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89A86-3CC8-4E14-9B3C-7BD784E3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25AEF-4E62-4C35-A51D-632634EA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.xml"/><Relationship Id="rId18" Type="http://schemas.openxmlformats.org/officeDocument/2006/relationships/slideLayout" Target="../slideLayouts/slideLayout2.xml"/><Relationship Id="rId19" Type="http://schemas.openxmlformats.org/officeDocument/2006/relationships/slideLayout" Target="../slideLayouts/slideLayout3.xml"/><Relationship Id="rId20" Type="http://schemas.openxmlformats.org/officeDocument/2006/relationships/slideLayout" Target="../slideLayouts/slideLayout4.xml"/><Relationship Id="rId21" Type="http://schemas.openxmlformats.org/officeDocument/2006/relationships/slideLayout" Target="../slideLayouts/slideLayout5.xml"/><Relationship Id="rId22" Type="http://schemas.openxmlformats.org/officeDocument/2006/relationships/slideLayout" Target="../slideLayouts/slideLayout6.xml"/><Relationship Id="rId23" Type="http://schemas.openxmlformats.org/officeDocument/2006/relationships/slideLayout" Target="../slideLayouts/slideLayout7.xml"/><Relationship Id="rId24" Type="http://schemas.openxmlformats.org/officeDocument/2006/relationships/slideLayout" Target="../slideLayouts/slideLayout8.xml"/><Relationship Id="rId25" Type="http://schemas.openxmlformats.org/officeDocument/2006/relationships/slideLayout" Target="../slideLayouts/slideLayout9.xml"/><Relationship Id="rId26" Type="http://schemas.openxmlformats.org/officeDocument/2006/relationships/slideLayout" Target="../slideLayouts/slideLayout10.xml"/><Relationship Id="rId27" Type="http://schemas.openxmlformats.org/officeDocument/2006/relationships/slideLayout" Target="../slideLayouts/slideLayout11.xml"/><Relationship Id="rId2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09.xml"/><Relationship Id="rId18" Type="http://schemas.openxmlformats.org/officeDocument/2006/relationships/slideLayout" Target="../slideLayouts/slideLayout110.xml"/><Relationship Id="rId19" Type="http://schemas.openxmlformats.org/officeDocument/2006/relationships/slideLayout" Target="../slideLayouts/slideLayout111.xml"/><Relationship Id="rId20" Type="http://schemas.openxmlformats.org/officeDocument/2006/relationships/slideLayout" Target="../slideLayouts/slideLayout112.xml"/><Relationship Id="rId21" Type="http://schemas.openxmlformats.org/officeDocument/2006/relationships/slideLayout" Target="../slideLayouts/slideLayout113.xml"/><Relationship Id="rId22" Type="http://schemas.openxmlformats.org/officeDocument/2006/relationships/slideLayout" Target="../slideLayouts/slideLayout114.xml"/><Relationship Id="rId23" Type="http://schemas.openxmlformats.org/officeDocument/2006/relationships/slideLayout" Target="../slideLayouts/slideLayout115.xml"/><Relationship Id="rId24" Type="http://schemas.openxmlformats.org/officeDocument/2006/relationships/slideLayout" Target="../slideLayouts/slideLayout116.xml"/><Relationship Id="rId25" Type="http://schemas.openxmlformats.org/officeDocument/2006/relationships/slideLayout" Target="../slideLayouts/slideLayout117.xml"/><Relationship Id="rId26" Type="http://schemas.openxmlformats.org/officeDocument/2006/relationships/slideLayout" Target="../slideLayouts/slideLayout118.xml"/><Relationship Id="rId27" Type="http://schemas.openxmlformats.org/officeDocument/2006/relationships/slideLayout" Target="../slideLayouts/slideLayout119.xml"/><Relationship Id="rId2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21.xml"/><Relationship Id="rId18" Type="http://schemas.openxmlformats.org/officeDocument/2006/relationships/slideLayout" Target="../slideLayouts/slideLayout122.xml"/><Relationship Id="rId19" Type="http://schemas.openxmlformats.org/officeDocument/2006/relationships/slideLayout" Target="../slideLayouts/slideLayout123.xml"/><Relationship Id="rId20" Type="http://schemas.openxmlformats.org/officeDocument/2006/relationships/slideLayout" Target="../slideLayouts/slideLayout124.xml"/><Relationship Id="rId21" Type="http://schemas.openxmlformats.org/officeDocument/2006/relationships/slideLayout" Target="../slideLayouts/slideLayout125.xml"/><Relationship Id="rId22" Type="http://schemas.openxmlformats.org/officeDocument/2006/relationships/slideLayout" Target="../slideLayouts/slideLayout126.xml"/><Relationship Id="rId23" Type="http://schemas.openxmlformats.org/officeDocument/2006/relationships/slideLayout" Target="../slideLayouts/slideLayout127.xml"/><Relationship Id="rId24" Type="http://schemas.openxmlformats.org/officeDocument/2006/relationships/slideLayout" Target="../slideLayouts/slideLayout128.xml"/><Relationship Id="rId25" Type="http://schemas.openxmlformats.org/officeDocument/2006/relationships/slideLayout" Target="../slideLayouts/slideLayout129.xml"/><Relationship Id="rId26" Type="http://schemas.openxmlformats.org/officeDocument/2006/relationships/slideLayout" Target="../slideLayouts/slideLayout130.xml"/><Relationship Id="rId27" Type="http://schemas.openxmlformats.org/officeDocument/2006/relationships/slideLayout" Target="../slideLayouts/slideLayout131.xml"/><Relationship Id="rId2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33.xml"/><Relationship Id="rId18" Type="http://schemas.openxmlformats.org/officeDocument/2006/relationships/slideLayout" Target="../slideLayouts/slideLayout134.xml"/><Relationship Id="rId19" Type="http://schemas.openxmlformats.org/officeDocument/2006/relationships/slideLayout" Target="../slideLayouts/slideLayout135.xml"/><Relationship Id="rId20" Type="http://schemas.openxmlformats.org/officeDocument/2006/relationships/slideLayout" Target="../slideLayouts/slideLayout136.xml"/><Relationship Id="rId21" Type="http://schemas.openxmlformats.org/officeDocument/2006/relationships/slideLayout" Target="../slideLayouts/slideLayout137.xml"/><Relationship Id="rId22" Type="http://schemas.openxmlformats.org/officeDocument/2006/relationships/slideLayout" Target="../slideLayouts/slideLayout138.xml"/><Relationship Id="rId23" Type="http://schemas.openxmlformats.org/officeDocument/2006/relationships/slideLayout" Target="../slideLayouts/slideLayout139.xml"/><Relationship Id="rId24" Type="http://schemas.openxmlformats.org/officeDocument/2006/relationships/slideLayout" Target="../slideLayouts/slideLayout140.xml"/><Relationship Id="rId25" Type="http://schemas.openxmlformats.org/officeDocument/2006/relationships/slideLayout" Target="../slideLayouts/slideLayout141.xml"/><Relationship Id="rId26" Type="http://schemas.openxmlformats.org/officeDocument/2006/relationships/slideLayout" Target="../slideLayouts/slideLayout142.xml"/><Relationship Id="rId27" Type="http://schemas.openxmlformats.org/officeDocument/2006/relationships/slideLayout" Target="../slideLayouts/slideLayout143.xml"/><Relationship Id="rId2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3.xml"/><Relationship Id="rId18" Type="http://schemas.openxmlformats.org/officeDocument/2006/relationships/slideLayout" Target="../slideLayouts/slideLayout14.xml"/><Relationship Id="rId19" Type="http://schemas.openxmlformats.org/officeDocument/2006/relationships/slideLayout" Target="../slideLayouts/slideLayout15.xml"/><Relationship Id="rId20" Type="http://schemas.openxmlformats.org/officeDocument/2006/relationships/slideLayout" Target="../slideLayouts/slideLayout16.xml"/><Relationship Id="rId21" Type="http://schemas.openxmlformats.org/officeDocument/2006/relationships/slideLayout" Target="../slideLayouts/slideLayout17.xml"/><Relationship Id="rId22" Type="http://schemas.openxmlformats.org/officeDocument/2006/relationships/slideLayout" Target="../slideLayouts/slideLayout18.xml"/><Relationship Id="rId23" Type="http://schemas.openxmlformats.org/officeDocument/2006/relationships/slideLayout" Target="../slideLayouts/slideLayout19.xml"/><Relationship Id="rId24" Type="http://schemas.openxmlformats.org/officeDocument/2006/relationships/slideLayout" Target="../slideLayouts/slideLayout20.xml"/><Relationship Id="rId25" Type="http://schemas.openxmlformats.org/officeDocument/2006/relationships/slideLayout" Target="../slideLayouts/slideLayout21.xml"/><Relationship Id="rId26" Type="http://schemas.openxmlformats.org/officeDocument/2006/relationships/slideLayout" Target="../slideLayouts/slideLayout22.xml"/><Relationship Id="rId27" Type="http://schemas.openxmlformats.org/officeDocument/2006/relationships/slideLayout" Target="../slideLayouts/slideLayout23.xml"/><Relationship Id="rId2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85.xml"/><Relationship Id="rId18" Type="http://schemas.openxmlformats.org/officeDocument/2006/relationships/slideLayout" Target="../slideLayouts/slideLayout86.xml"/><Relationship Id="rId19" Type="http://schemas.openxmlformats.org/officeDocument/2006/relationships/slideLayout" Target="../slideLayouts/slideLayout87.xml"/><Relationship Id="rId20" Type="http://schemas.openxmlformats.org/officeDocument/2006/relationships/slideLayout" Target="../slideLayouts/slideLayout88.xml"/><Relationship Id="rId21" Type="http://schemas.openxmlformats.org/officeDocument/2006/relationships/slideLayout" Target="../slideLayouts/slideLayout89.xml"/><Relationship Id="rId22" Type="http://schemas.openxmlformats.org/officeDocument/2006/relationships/slideLayout" Target="../slideLayouts/slideLayout90.xml"/><Relationship Id="rId23" Type="http://schemas.openxmlformats.org/officeDocument/2006/relationships/slideLayout" Target="../slideLayouts/slideLayout91.xml"/><Relationship Id="rId24" Type="http://schemas.openxmlformats.org/officeDocument/2006/relationships/slideLayout" Target="../slideLayouts/slideLayout92.xml"/><Relationship Id="rId25" Type="http://schemas.openxmlformats.org/officeDocument/2006/relationships/slideLayout" Target="../slideLayouts/slideLayout93.xml"/><Relationship Id="rId26" Type="http://schemas.openxmlformats.org/officeDocument/2006/relationships/slideLayout" Target="../slideLayouts/slideLayout94.xml"/><Relationship Id="rId27" Type="http://schemas.openxmlformats.org/officeDocument/2006/relationships/slideLayout" Target="../slideLayouts/slideLayout95.xml"/><Relationship Id="rId2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97.xml"/><Relationship Id="rId18" Type="http://schemas.openxmlformats.org/officeDocument/2006/relationships/slideLayout" Target="../slideLayouts/slideLayout98.xml"/><Relationship Id="rId19" Type="http://schemas.openxmlformats.org/officeDocument/2006/relationships/slideLayout" Target="../slideLayouts/slideLayout99.xml"/><Relationship Id="rId20" Type="http://schemas.openxmlformats.org/officeDocument/2006/relationships/slideLayout" Target="../slideLayouts/slideLayout100.xml"/><Relationship Id="rId21" Type="http://schemas.openxmlformats.org/officeDocument/2006/relationships/slideLayout" Target="../slideLayouts/slideLayout101.xml"/><Relationship Id="rId22" Type="http://schemas.openxmlformats.org/officeDocument/2006/relationships/slideLayout" Target="../slideLayouts/slideLayout102.xml"/><Relationship Id="rId23" Type="http://schemas.openxmlformats.org/officeDocument/2006/relationships/slideLayout" Target="../slideLayouts/slideLayout103.xml"/><Relationship Id="rId24" Type="http://schemas.openxmlformats.org/officeDocument/2006/relationships/slideLayout" Target="../slideLayouts/slideLayout104.xml"/><Relationship Id="rId25" Type="http://schemas.openxmlformats.org/officeDocument/2006/relationships/slideLayout" Target="../slideLayouts/slideLayout105.xml"/><Relationship Id="rId26" Type="http://schemas.openxmlformats.org/officeDocument/2006/relationships/slideLayout" Target="../slideLayouts/slideLayout106.xml"/><Relationship Id="rId27" Type="http://schemas.openxmlformats.org/officeDocument/2006/relationships/slideLayout" Target="../slideLayouts/slideLayout107.xml"/><Relationship Id="rId2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4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12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13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14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15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8292-340E-4516-9329-4F5767E238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7"/>
    <p:sldLayoutId id="2147483650" r:id="rId18"/>
    <p:sldLayoutId id="2147483651" r:id="rId19"/>
    <p:sldLayoutId id="2147483652" r:id="rId20"/>
    <p:sldLayoutId id="2147483653" r:id="rId21"/>
    <p:sldLayoutId id="2147483654" r:id="rId22"/>
    <p:sldLayoutId id="2147483655" r:id="rId23"/>
    <p:sldLayoutId id="2147483656" r:id="rId24"/>
    <p:sldLayoutId id="2147483657" r:id="rId25"/>
    <p:sldLayoutId id="2147483658" r:id="rId26"/>
    <p:sldLayoutId id="2147483659" r:id="rId27"/>
    <p:sldLayoutId id="2147483660" r:id="rId2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05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506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512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513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14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516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8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9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92CF-F49B-4E31-A393-A2FEC43D08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7"/>
    <p:sldLayoutId id="2147483767" r:id="rId18"/>
    <p:sldLayoutId id="2147483768" r:id="rId19"/>
    <p:sldLayoutId id="2147483769" r:id="rId20"/>
    <p:sldLayoutId id="2147483770" r:id="rId21"/>
    <p:sldLayoutId id="2147483771" r:id="rId22"/>
    <p:sldLayoutId id="2147483772" r:id="rId23"/>
    <p:sldLayoutId id="2147483773" r:id="rId24"/>
    <p:sldLayoutId id="2147483774" r:id="rId25"/>
    <p:sldLayoutId id="2147483775" r:id="rId26"/>
    <p:sldLayoutId id="2147483776" r:id="rId27"/>
    <p:sldLayoutId id="2147483777" r:id="rId2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569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570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572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573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1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2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A423-6F69-4483-9CD1-6397BB2A97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7"/>
    <p:sldLayoutId id="2147483780" r:id="rId18"/>
    <p:sldLayoutId id="2147483781" r:id="rId19"/>
    <p:sldLayoutId id="2147483782" r:id="rId20"/>
    <p:sldLayoutId id="2147483783" r:id="rId21"/>
    <p:sldLayoutId id="2147483784" r:id="rId22"/>
    <p:sldLayoutId id="2147483785" r:id="rId23"/>
    <p:sldLayoutId id="2147483786" r:id="rId24"/>
    <p:sldLayoutId id="2147483787" r:id="rId25"/>
    <p:sldLayoutId id="2147483788" r:id="rId26"/>
    <p:sldLayoutId id="2147483789" r:id="rId27"/>
    <p:sldLayoutId id="2147483790" r:id="rId2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617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20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21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622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623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624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626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627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628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629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34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35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81FE-58CF-41FD-B482-BED90A62CA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7"/>
    <p:sldLayoutId id="2147483793" r:id="rId18"/>
    <p:sldLayoutId id="2147483794" r:id="rId19"/>
    <p:sldLayoutId id="2147483795" r:id="rId20"/>
    <p:sldLayoutId id="2147483796" r:id="rId21"/>
    <p:sldLayoutId id="2147483797" r:id="rId22"/>
    <p:sldLayoutId id="2147483798" r:id="rId23"/>
    <p:sldLayoutId id="2147483799" r:id="rId24"/>
    <p:sldLayoutId id="2147483800" r:id="rId25"/>
    <p:sldLayoutId id="2147483801" r:id="rId26"/>
    <p:sldLayoutId id="2147483802" r:id="rId27"/>
    <p:sldLayoutId id="2147483803" r:id="rId2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58C8-DD8D-4434-9D93-C11EBD9582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7"/>
    <p:sldLayoutId id="2147483663" r:id="rId18"/>
    <p:sldLayoutId id="2147483664" r:id="rId19"/>
    <p:sldLayoutId id="2147483665" r:id="rId20"/>
    <p:sldLayoutId id="2147483666" r:id="rId21"/>
    <p:sldLayoutId id="2147483667" r:id="rId22"/>
    <p:sldLayoutId id="2147483668" r:id="rId23"/>
    <p:sldLayoutId id="2147483669" r:id="rId24"/>
    <p:sldLayoutId id="2147483670" r:id="rId25"/>
    <p:sldLayoutId id="2147483671" r:id="rId26"/>
    <p:sldLayoutId id="2147483672" r:id="rId27"/>
    <p:sldLayoutId id="2147483673" r:id="rId2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2"/>
          <p:cNvSpPr/>
          <p:nvPr/>
        </p:nvSpPr>
        <p:spPr>
          <a:xfrm>
            <a:off x="500040" y="285840"/>
            <a:ext cx="8215200" cy="585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2030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5" descr="i (5).jpg"/>
          <p:cNvPicPr/>
          <p:nvPr/>
        </p:nvPicPr>
        <p:blipFill>
          <a:blip r:embed="rId3"/>
          <a:stretch/>
        </p:blipFill>
        <p:spPr>
          <a:xfrm>
            <a:off x="7000920" y="5357880"/>
            <a:ext cx="1838160" cy="13572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5"/>
          <p:cNvSpPr/>
          <p:nvPr/>
        </p:nvSpPr>
        <p:spPr>
          <a:xfrm>
            <a:off x="165240" y="657216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27" descr="божья коровка.jpg"/>
          <p:cNvPicPr/>
          <p:nvPr/>
        </p:nvPicPr>
        <p:blipFill>
          <a:blip r:embed="rId4"/>
          <a:stretch/>
        </p:blipFill>
        <p:spPr>
          <a:xfrm>
            <a:off x="7500960" y="5051520"/>
            <a:ext cx="714240" cy="577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2928600" y="7072200"/>
            <a:ext cx="57132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3080-DD7B-4D27-BADF-BB9319114F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3286080" y="7000920"/>
            <a:ext cx="5716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7445-89AA-4131-8EDC-76C8139996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9BB7-14E6-4364-A69C-20F87E0124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6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4944-0647-4C66-802C-EBD667A056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9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0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2411-6DD2-4B67-A8CC-39C8A008BC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A043-9B5E-4F4A-ADF7-81628B6009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7"/>
    <p:sldLayoutId id="2147483741" r:id="rId18"/>
    <p:sldLayoutId id="2147483742" r:id="rId19"/>
    <p:sldLayoutId id="2147483743" r:id="rId20"/>
    <p:sldLayoutId id="2147483744" r:id="rId21"/>
    <p:sldLayoutId id="2147483745" r:id="rId22"/>
    <p:sldLayoutId id="2147483746" r:id="rId23"/>
    <p:sldLayoutId id="2147483747" r:id="rId24"/>
    <p:sldLayoutId id="2147483748" r:id="rId25"/>
    <p:sldLayoutId id="2147483749" r:id="rId26"/>
    <p:sldLayoutId id="2147483750" r:id="rId27"/>
    <p:sldLayoutId id="2147483751" r:id="rId2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D9A0-1514-41D8-8319-0B9157795A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7"/>
    <p:sldLayoutId id="2147483754" r:id="rId18"/>
    <p:sldLayoutId id="2147483755" r:id="rId19"/>
    <p:sldLayoutId id="2147483756" r:id="rId20"/>
    <p:sldLayoutId id="2147483757" r:id="rId21"/>
    <p:sldLayoutId id="2147483758" r:id="rId22"/>
    <p:sldLayoutId id="2147483759" r:id="rId23"/>
    <p:sldLayoutId id="2147483760" r:id="rId24"/>
    <p:sldLayoutId id="2147483761" r:id="rId25"/>
    <p:sldLayoutId id="2147483762" r:id="rId26"/>
    <p:sldLayoutId id="2147483763" r:id="rId27"/>
    <p:sldLayoutId id="2147483764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71720" y="1142640"/>
            <a:ext cx="6858000" cy="18572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ожение и вычитание многозначных чисел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2714760" y="4429080"/>
            <a:ext cx="4000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Автор работы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Дубинкина Олеся Александровна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МБОУ «Таёжинская нош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д. Таёжная. 2016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C:\Users\ОЛЕСЯ\Desktop\i (13).jpg"/>
          <p:cNvPicPr/>
          <p:nvPr/>
        </p:nvPicPr>
        <p:blipFill>
          <a:blip r:embed="rId1"/>
          <a:stretch/>
        </p:blipFill>
        <p:spPr>
          <a:xfrm rot="600000">
            <a:off x="5592600" y="1058760"/>
            <a:ext cx="2733840" cy="20480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" descr="C:\Users\ОЛЕСЯ\Desktop\i (14).jpg"/>
          <p:cNvPicPr/>
          <p:nvPr/>
        </p:nvPicPr>
        <p:blipFill>
          <a:blip r:embed="rId2"/>
          <a:stretch/>
        </p:blipFill>
        <p:spPr>
          <a:xfrm rot="21240000">
            <a:off x="998640" y="974520"/>
            <a:ext cx="2733480" cy="20476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C:\Users\ОЛЕСЯ\Desktop\i (15).jpg"/>
          <p:cNvPicPr/>
          <p:nvPr/>
        </p:nvPicPr>
        <p:blipFill>
          <a:blip r:embed="rId3"/>
          <a:stretch/>
        </p:blipFill>
        <p:spPr>
          <a:xfrm>
            <a:off x="3233880" y="3375000"/>
            <a:ext cx="273348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Прямоугольник 1"/>
          <p:cNvSpPr/>
          <p:nvPr/>
        </p:nvSpPr>
        <p:spPr>
          <a:xfrm>
            <a:off x="2286000" y="3000240"/>
            <a:ext cx="4572000" cy="10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м  спасибо за работ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C:\Users\ОЛЕСЯ\Desktop\i.jpg"/>
          <p:cNvPicPr/>
          <p:nvPr/>
        </p:nvPicPr>
        <p:blipFill>
          <a:blip r:embed="rId1"/>
          <a:stretch/>
        </p:blipFill>
        <p:spPr>
          <a:xfrm>
            <a:off x="1116000" y="1125360"/>
            <a:ext cx="3076560" cy="20480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3" descr="C:\Users\ОЛЕСЯ\Desktop\i (1).jpg"/>
          <p:cNvPicPr/>
          <p:nvPr/>
        </p:nvPicPr>
        <p:blipFill>
          <a:blip r:embed="rId2"/>
          <a:stretch/>
        </p:blipFill>
        <p:spPr>
          <a:xfrm>
            <a:off x="6227640" y="1362240"/>
            <a:ext cx="1514520" cy="20476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C:\Users\ОЛЕСЯ\Desktop\i (2).jpg"/>
          <p:cNvPicPr/>
          <p:nvPr/>
        </p:nvPicPr>
        <p:blipFill>
          <a:blip r:embed="rId3"/>
          <a:stretch/>
        </p:blipFill>
        <p:spPr>
          <a:xfrm>
            <a:off x="2916360" y="3429000"/>
            <a:ext cx="308592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2" descr="C:\Users\ОЛЕСЯ\Desktop\i (3).jpg"/>
          <p:cNvPicPr/>
          <p:nvPr/>
        </p:nvPicPr>
        <p:blipFill>
          <a:blip r:embed="rId1"/>
          <a:stretch/>
        </p:blipFill>
        <p:spPr>
          <a:xfrm>
            <a:off x="1692360" y="1371600"/>
            <a:ext cx="1590480" cy="20480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3" descr="C:\Users\ОЛЕСЯ\Desktop\i (4).jpg"/>
          <p:cNvPicPr/>
          <p:nvPr/>
        </p:nvPicPr>
        <p:blipFill>
          <a:blip r:embed="rId2"/>
          <a:stretch/>
        </p:blipFill>
        <p:spPr>
          <a:xfrm>
            <a:off x="4067280" y="1197000"/>
            <a:ext cx="3085920" cy="20476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" descr="C:\Users\ОЛЕСЯ\Desktop\i (5).jpg"/>
          <p:cNvPicPr/>
          <p:nvPr/>
        </p:nvPicPr>
        <p:blipFill>
          <a:blip r:embed="rId3"/>
          <a:stretch/>
        </p:blipFill>
        <p:spPr>
          <a:xfrm>
            <a:off x="3132000" y="3573360"/>
            <a:ext cx="153360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Прямоугольник 1"/>
          <p:cNvSpPr/>
          <p:nvPr/>
        </p:nvSpPr>
        <p:spPr>
          <a:xfrm>
            <a:off x="2268360" y="1413000"/>
            <a:ext cx="30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346+х=3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2" descr="C:\Users\ОЛЕСЯ\Desktop\i (6).jpg"/>
          <p:cNvPicPr/>
          <p:nvPr/>
        </p:nvPicPr>
        <p:blipFill>
          <a:blip r:embed="rId1"/>
          <a:stretch/>
        </p:blipFill>
        <p:spPr>
          <a:xfrm>
            <a:off x="2195640" y="1125360"/>
            <a:ext cx="4689360" cy="3922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Прямоугольник 1"/>
          <p:cNvSpPr/>
          <p:nvPr/>
        </p:nvSpPr>
        <p:spPr>
          <a:xfrm>
            <a:off x="1692360" y="3105000"/>
            <a:ext cx="516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210    526      66      157   218  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К      Н        А        А       А     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2" descr="C:\Users\ОЛЕСЯ\Desktop\i (7).jpg"/>
          <p:cNvPicPr/>
          <p:nvPr/>
        </p:nvPicPr>
        <p:blipFill>
          <a:blip r:embed="rId1"/>
          <a:stretch/>
        </p:blipFill>
        <p:spPr>
          <a:xfrm>
            <a:off x="2700360" y="843120"/>
            <a:ext cx="3959280" cy="5038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2" descr="C:\Users\ОЛЕСЯ\Desktop\i (9).jpg"/>
          <p:cNvPicPr/>
          <p:nvPr/>
        </p:nvPicPr>
        <p:blipFill>
          <a:blip r:embed="rId1"/>
          <a:stretch/>
        </p:blipFill>
        <p:spPr>
          <a:xfrm rot="21300000">
            <a:off x="1098360" y="842760"/>
            <a:ext cx="3028680" cy="204768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3" descr="C:\Users\ОЛЕСЯ\Desktop\i (10).jpg"/>
          <p:cNvPicPr/>
          <p:nvPr/>
        </p:nvPicPr>
        <p:blipFill>
          <a:blip r:embed="rId2"/>
          <a:stretch/>
        </p:blipFill>
        <p:spPr>
          <a:xfrm rot="420000">
            <a:off x="5003280" y="713880"/>
            <a:ext cx="3076560" cy="20480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C:\Users\ОЛЕСЯ\Desktop\i (11).jpg"/>
          <p:cNvPicPr/>
          <p:nvPr/>
        </p:nvPicPr>
        <p:blipFill>
          <a:blip r:embed="rId3"/>
          <a:stretch/>
        </p:blipFill>
        <p:spPr>
          <a:xfrm rot="21300000">
            <a:off x="4968720" y="2924280"/>
            <a:ext cx="3181680" cy="20476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5" descr="C:\Users\ОЛЕСЯ\Desktop\i (12).jpg"/>
          <p:cNvPicPr/>
          <p:nvPr/>
        </p:nvPicPr>
        <p:blipFill>
          <a:blip r:embed="rId4"/>
          <a:stretch/>
        </p:blipFill>
        <p:spPr>
          <a:xfrm>
            <a:off x="1116000" y="3213000"/>
            <a:ext cx="360036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Прямоугольник 1"/>
          <p:cNvSpPr/>
          <p:nvPr/>
        </p:nvSpPr>
        <p:spPr>
          <a:xfrm>
            <a:off x="1258920" y="1490400"/>
            <a:ext cx="691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жно по лесу гуляем (шаги на мес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листочки собираем (наклоны впере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ирать их каждый 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о чудный листопад! (прыжки на месте, с хлопками в ладош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8:46:04Z</dcterms:created>
  <dc:creator>Admin</dc:creator>
  <dc:description/>
  <dc:language>en-US</dc:language>
  <cp:lastModifiedBy>ОЛЕСЯ</cp:lastModifiedBy>
  <dcterms:modified xsi:type="dcterms:W3CDTF">2016-02-07T12:08:34Z</dcterms:modified>
  <cp:revision>11</cp:revision>
  <dc:subject/>
  <dc:title>Слайд 1</dc:title>
</cp:coreProperties>
</file>