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062-316F-4C61-9F32-C93A4942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9F2-3650-45A1-B5BE-92ABBB7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B2076-6FE7-49FB-ABB6-216A04AC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9326B-9C28-49F8-8A6B-86884E4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8FEDD-4CCE-4107-B269-02621B0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96557-5FCF-4515-B735-C43E2AF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456A1-A43F-4CE5-9E17-6A10BA84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F9F0C-174F-491F-929C-1E7D2B0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EF3FF-B65B-427D-91E3-0BEF557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671BA-1D60-46CE-958D-34CA0E58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890AD-C801-44FF-BF23-096BDB7E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DCF3D-E42C-4B50-887F-4E988183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027-C5F0-49F3-89F6-877CBE8D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AE3AD-CDE9-4ED1-8D03-95BB3BE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D75B7-11B3-48F8-81C9-52336B2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FF4D6-0321-4813-8B2F-8F479C67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2E979-4935-4147-9F2D-B5F9E88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6CFDA-7975-4CBB-8357-E61C586B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102CD-3796-4C71-B433-A5C23F8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DACD6-1AB8-4A8C-B98B-52ED450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157BE-B7BF-4F2F-9ADE-7702E30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AAB1C-C2B3-406F-92DD-87F04658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C2DCD-70BA-4061-BEBA-64C1BFF5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65B-1762-44DA-8161-6ACC6A4F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4AFDC-A1CE-43BF-B89C-EFFACB8D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AB414-96AA-4D13-829F-C362E839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66A94-813A-4ECC-9120-E2BC011C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75044-BF85-46FF-9F3C-D3971E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3CDD7-5E9B-4FEB-9C00-8C3D95E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3A46C-C12E-434F-9305-9869A112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E61D6-B8BB-4D76-ABA4-0782672A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840D8-7264-4514-9386-4F22950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62E3D-F9A8-4920-A791-C923901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36A22-D917-43AF-90FC-547BA05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399A-7260-40EB-AD34-9B6679E1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67E56-C26A-4E04-BD60-8A11D07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DE755-967A-4407-BC69-BDB2EF80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3A9F-B8B8-4A10-B82A-E57C10F5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0F910-9348-4E5E-8AD3-CA1DA675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CB17D-379D-4DE5-AECB-74E51F2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45288-6546-4201-A7E2-E574607A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E4FAB-FDE5-4965-A58F-D30EE52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4CA76-F2EA-4003-A2A6-23466D2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B5BD4-C823-4D00-961B-F264B156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FFBB-E356-4290-9BE1-70FC3B43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FCF-AC0F-47E0-AA4F-7135BF7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F4FAF-8556-4E0A-8FF4-6F7504E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424A6-E2B9-41F5-9013-9E4C25B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CB459-2BE9-4EA1-AB0E-E98B3F9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07A52-0FCC-41E7-85A8-28D72B28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7A2C3-1D7E-482A-8C91-6C3F67C3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B01-BDA0-4CDB-B247-FA3B1A9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877E-7CF4-45DB-A37B-B2C17E69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01D8-6C33-491E-BC1E-214283B3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498-8335-4327-9C71-9DEF656F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D0A-75ED-44F5-8513-BCA5722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6DD-15E3-4034-9213-CB54FA2B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68FC-22C2-42E8-B1A5-3BF30CA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D94F-83AD-4D7E-A9E5-E14D346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2DC-FA0B-4913-88D6-DE4960FB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EB96-0025-4D98-A7CD-6B545451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15DF-C67B-411D-85F0-861DAB0D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CB03-E0E4-4C56-BE3A-21345DDB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D82B-C353-48DA-918C-32EB81E9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0D16-B23A-44B9-9B68-9EF7C7A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629B-40B4-41E9-B318-8CCBE25C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AC8B-A518-4DFB-9604-3AE0ED4E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6B7-CBA8-43DC-BA75-65800B6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8C24-6845-401A-97DD-FE68CD04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03AC-B74F-4693-8C9E-16DB91B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87D0-0F4A-4F1C-ADE0-C402198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71A8-59EC-492E-A345-6307D7F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B5B5-FE1E-42BA-BDDF-47B0DDB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A855-E1FE-47DA-808E-933A7E08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ED32-9737-431B-A3A0-3D5A04B8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FDC7-EEFF-492F-830C-927CDB30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E80A-C6EF-491E-8725-57F408D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4A3E-11C6-4CF9-907F-5378224C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57F-5BD4-4C5C-BAAE-F9F5F58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70FE-30AC-4C6F-A23D-D000378F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6CA0-265B-48B6-8507-E775DE3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F6A5-C65D-4407-92F7-C016701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7590-A964-4FED-8186-52CB76D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1144-B541-43DC-BE79-079024B8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0D9C-7B35-4715-BF05-96998866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E50F-5F5E-4BAD-BB6C-B8E9FC9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52EB0-9889-4E0A-BED9-0ACF65C3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972D-8B5F-4FE9-B05B-644665DB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4692-F9E3-49F3-A25A-18A5277F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116-5027-4278-B83A-7F886EEB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7248-3237-4273-907D-5A87D636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40070-9E63-4144-9E74-ED9F0913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C08B-C00E-49CA-B77E-28C80E6E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D0C0-FB34-4036-A252-C1EFBB7F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371E-1E12-4722-B1EE-C6D7CEA8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8AAD-D784-40F1-BC9A-D33A198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A89F-9BDE-40DC-9ECF-0FBFDE4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D1EA-21A0-420C-A636-8BC26BF1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8203-B45A-4730-BEDA-C7472B91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E574-7DC2-4B7F-8D0C-0CE54ECA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604-BAF0-422F-B122-9634B20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AB8F-8E42-421F-BF99-DEFE34C6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B72F-EC07-4607-AA11-6C4F528E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6EA0C-CBBE-43F0-98FC-20094E7C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92696-FE1A-49BC-871C-75177AA4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3039-E356-477F-8479-9FE3A4FE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D906-1150-405D-A5F5-B078448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BF89-2462-4F34-8CF7-B69D9378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F9CE-2F6E-4239-810A-1612D9A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7DDD-203D-4613-8EBC-23D5341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A911-E2D1-43DE-9943-C2E96E6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AC3-E6CB-42E8-B75E-A9BAF81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4DAE-7DB5-4657-B12A-B7B466B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F3C5-13DF-45E2-A793-42F1BFAB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087E7-9139-4297-8FA4-AAA3F522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EB826-8C9A-445C-B169-12BAD119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912F-0659-4876-965C-C8E2050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323BA-BE5B-45BC-AC0A-7FAA8B2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AA04-A60B-41F5-BBA3-D62D415D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48CB-D762-488C-83DC-E342B1AB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07C5-F892-433D-A68F-ACA7D72A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E2E2-C40F-480E-9A6A-DE42B14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6DF-8527-4564-B966-F4C65FD5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4E2B-2758-49B5-91F8-7C53CBD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1E773-3B19-4D0C-BBCD-1B9CCC05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A4A8-8DB0-4009-95CA-C1554728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C23A-D345-49F8-9709-7C8E26AE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90ED-4EE3-498D-AE8A-FC74D8D2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D41A4-175F-4321-9D49-4F19BB3F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ECB1A-70EB-4E8E-B06B-400F1CD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563FC-2B1F-41AF-9E25-E03B946E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50F0D-7892-4EF1-B158-6B2E5D48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0F8DA-D01D-4C50-9EC9-510154C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9AB-14B9-4BBB-AB5C-B67955B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942E-40A6-4E4A-87F9-4D9D023A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EDC23-CEDA-4211-B610-962540A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BA88F-EB92-431E-B730-F5B83CC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416E-6E1C-4FB5-979A-136C383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29C0-7A00-43FE-B687-6DF15244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DE340-7F03-4070-8F61-2D29FFBC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565E-8858-463A-B249-F0ED68CB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44F99-2352-476C-A643-C6D08F19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736C9-860E-4673-8DE1-7AA6DE2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51926-8ACD-4589-A664-44A9410B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44B-BA04-477E-98A8-BD74D6D97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2B5-740C-49B7-841D-87DFF7C7C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46E-A40D-4713-BAE4-80761CFF9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81D-4D4F-44A4-B820-3B8F6F489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905-50A8-4201-B81B-E760281A8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4A55-7FBE-41A1-A3E8-23CD46F99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CE0-CF01-4BB4-9FA5-7F8B7235B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B157-07D8-4536-B161-FEE09ACCD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56A6-360C-476B-A522-9681D84BB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2DE-2849-45FE-94E6-1F4DD56D1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4A6B-198A-4BCC-9B9F-5AB371D0D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175-E2F0-499A-A2ED-A3F557343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72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значных чи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убинкина Олеся Александровн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БОУ «Таёжинская н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. Таёжная. 2016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ОЛЕСЯ\Desktop\i (13).jpg"/>
          <p:cNvPicPr/>
          <p:nvPr/>
        </p:nvPicPr>
        <p:blipFill>
          <a:blip r:embed="rId1"/>
          <a:stretch/>
        </p:blipFill>
        <p:spPr>
          <a:xfrm rot="600000">
            <a:off x="5592600" y="105876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C:\Users\ОЛЕСЯ\Desktop\i (14).jpg"/>
          <p:cNvPicPr/>
          <p:nvPr/>
        </p:nvPicPr>
        <p:blipFill>
          <a:blip r:embed="rId2"/>
          <a:stretch/>
        </p:blipFill>
        <p:spPr>
          <a:xfrm rot="21240000">
            <a:off x="998640" y="97452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ОЛЕСЯ\Desktop\i (15).jpg"/>
          <p:cNvPicPr/>
          <p:nvPr/>
        </p:nvPicPr>
        <p:blipFill>
          <a:blip r:embed="rId3"/>
          <a:stretch/>
        </p:blipFill>
        <p:spPr>
          <a:xfrm>
            <a:off x="3233880" y="337500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рямоугольник 1"/>
          <p:cNvSpPr/>
          <p:nvPr/>
        </p:nvSpPr>
        <p:spPr>
          <a:xfrm>
            <a:off x="2286000" y="3000240"/>
            <a:ext cx="45720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 спасибо за рабо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C:\Users\ОЛЕСЯ\Desktop\i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Users\ОЛЕСЯ\Desktop\i (1).jpg"/>
          <p:cNvPicPr/>
          <p:nvPr/>
        </p:nvPicPr>
        <p:blipFill>
          <a:blip r:embed="rId2"/>
          <a:stretch/>
        </p:blipFill>
        <p:spPr>
          <a:xfrm>
            <a:off x="6227640" y="13622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C:\Users\ОЛЕСЯ\Desktop\i (2).jpg"/>
          <p:cNvPicPr/>
          <p:nvPr/>
        </p:nvPicPr>
        <p:blipFill>
          <a:blip r:embed="rId3"/>
          <a:stretch/>
        </p:blipFill>
        <p:spPr>
          <a:xfrm>
            <a:off x="2916360" y="342900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ЕСЯ\Desktop\i (3).jpg"/>
          <p:cNvPicPr/>
          <p:nvPr/>
        </p:nvPicPr>
        <p:blipFill>
          <a:blip r:embed="rId1"/>
          <a:stretch/>
        </p:blipFill>
        <p:spPr>
          <a:xfrm>
            <a:off x="1692360" y="1371600"/>
            <a:ext cx="1590480" cy="2048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C:\Users\ОЛЕСЯ\Desktop\i (4).jpg"/>
          <p:cNvPicPr/>
          <p:nvPr/>
        </p:nvPicPr>
        <p:blipFill>
          <a:blip r:embed="rId2"/>
          <a:stretch/>
        </p:blipFill>
        <p:spPr>
          <a:xfrm>
            <a:off x="4067280" y="1197000"/>
            <a:ext cx="3085920" cy="2047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C:\Users\ОЛЕСЯ\Desktop\i (5).jpg"/>
          <p:cNvPicPr/>
          <p:nvPr/>
        </p:nvPicPr>
        <p:blipFill>
          <a:blip r:embed="rId3"/>
          <a:stretch/>
        </p:blipFill>
        <p:spPr>
          <a:xfrm>
            <a:off x="3132000" y="3573360"/>
            <a:ext cx="153360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2268360" y="141300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46+х=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C:\Users\ОЛЕСЯ\Desktop\i (6).jpg"/>
          <p:cNvPicPr/>
          <p:nvPr/>
        </p:nvPicPr>
        <p:blipFill>
          <a:blip r:embed="rId1"/>
          <a:stretch/>
        </p:blipFill>
        <p:spPr>
          <a:xfrm>
            <a:off x="2195640" y="1125360"/>
            <a:ext cx="468936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692360" y="310500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10    526      66      157   218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     Н        А        А       А   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ОЛЕСЯ\Desktop\i (7).jpg"/>
          <p:cNvPicPr/>
          <p:nvPr/>
        </p:nvPicPr>
        <p:blipFill>
          <a:blip r:embed="rId1"/>
          <a:stretch/>
        </p:blipFill>
        <p:spPr>
          <a:xfrm>
            <a:off x="2700360" y="843120"/>
            <a:ext cx="39592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C:\Users\ОЛЕСЯ\Desktop\i (9).jpg"/>
          <p:cNvPicPr/>
          <p:nvPr/>
        </p:nvPicPr>
        <p:blipFill>
          <a:blip r:embed="rId1"/>
          <a:stretch/>
        </p:blipFill>
        <p:spPr>
          <a:xfrm rot="21300000">
            <a:off x="1098360" y="842760"/>
            <a:ext cx="3028680" cy="2047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C:\Users\ОЛЕСЯ\Desktop\i (10).jpg"/>
          <p:cNvPicPr/>
          <p:nvPr/>
        </p:nvPicPr>
        <p:blipFill>
          <a:blip r:embed="rId2"/>
          <a:stretch/>
        </p:blipFill>
        <p:spPr>
          <a:xfrm rot="420000">
            <a:off x="5003280" y="7138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Users\ОЛЕСЯ\Desktop\i (11).jpg"/>
          <p:cNvPicPr/>
          <p:nvPr/>
        </p:nvPicPr>
        <p:blipFill>
          <a:blip r:embed="rId3"/>
          <a:stretch/>
        </p:blipFill>
        <p:spPr>
          <a:xfrm rot="21300000">
            <a:off x="4968720" y="2924280"/>
            <a:ext cx="3181680" cy="2047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C:\Users\ОЛЕСЯ\Desktop\i (12).jpg"/>
          <p:cNvPicPr/>
          <p:nvPr/>
        </p:nvPicPr>
        <p:blipFill>
          <a:blip r:embed="rId4"/>
          <a:stretch/>
        </p:blipFill>
        <p:spPr>
          <a:xfrm>
            <a:off x="1116000" y="3213000"/>
            <a:ext cx="36003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1258920" y="149040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но по лесу гуляем (шаги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сточки собираем (наклоны впер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ть их каждый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чудный листопад! (прыжки на месте, с хлопками в ладо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ОЛЕСЯ</cp:lastModifiedBy>
  <dcterms:modified xsi:type="dcterms:W3CDTF">2016-02-07T12:08:34Z</dcterms:modified>
  <cp:revision>11</cp:revision>
  <dc:subject/>
  <dc:title>Слайд 1</dc:title>
</cp:coreProperties>
</file>